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5FEA-5C87-4596-919B-0A529DCA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5E73-C565-4843-ADAA-F1E1B96D85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90A-2E21-43F7-A80C-24CE91826D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54FB-C55E-4709-9F0B-76FB6BA712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D339-0ACA-43B0-B255-A1BA323F7D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F7FC-4BF6-4C16-853A-65AC156F12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1B9F-F8FA-4BA4-9A2C-00E3CBF823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B928-E87A-4554-985F-E27A3FAEA7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CC86-83EE-4FC5-B370-F67747A7A9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8D1-B70F-4C18-8D9F-E642CE4E0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4931-3E91-4A26-BC12-2A75291DF6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914-68A4-42D2-991D-31706840B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D610-658B-4F73-BAFB-04F4551BF8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AAB-E862-43D8-896F-C54FC5646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3038-B39F-4414-B9E4-71C0A9ABDD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6F93-4E65-4FFF-806C-CC0F0053C4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D945-63D8-4E0F-98F6-B2AA9AA6CF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reas covered by the public land surveys, with principal meridian shown. Areas excluded are shaded. (Hawaii, although not shown on this map, would also be shaded. Texas has a rectangular system similar to the U.S. public land system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22_001.jpg"/>
          <p:cNvPicPr/>
          <p:nvPr/>
        </p:nvPicPr>
        <p:blipFill>
          <a:blip r:embed="rId1"/>
          <a:stretch/>
        </p:blipFill>
        <p:spPr>
          <a:xfrm>
            <a:off x="1611360" y="1104840"/>
            <a:ext cx="59212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09960" y="31237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2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UBDIVISION STEP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tab22_01a.jpg"/>
          <p:cNvPicPr/>
          <p:nvPr/>
        </p:nvPicPr>
        <p:blipFill>
          <a:blip r:embed="rId1"/>
          <a:stretch/>
        </p:blipFill>
        <p:spPr>
          <a:xfrm>
            <a:off x="228600" y="488880"/>
            <a:ext cx="86868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09960" y="31237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2.1 (continued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UBDIVISION STEP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tab22_01b.jpg"/>
          <p:cNvPicPr/>
          <p:nvPr/>
        </p:nvPicPr>
        <p:blipFill>
          <a:blip r:embed="rId1"/>
          <a:stretch/>
        </p:blipFill>
        <p:spPr>
          <a:xfrm>
            <a:off x="228600" y="849240"/>
            <a:ext cx="86868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09960" y="31237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22.1 (continued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UBDIVISION STEP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tab22_01c.jpg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xample of single-proportionate measuremen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FG_22_010.jpg"/>
          <p:cNvPicPr/>
          <p:nvPr/>
        </p:nvPicPr>
        <p:blipFill>
          <a:blip r:embed="rId1"/>
          <a:stretch/>
        </p:blipFill>
        <p:spPr>
          <a:xfrm>
            <a:off x="457200" y="1955880"/>
            <a:ext cx="8229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1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xample of double-proportionate measuremen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FG_22_011.jpg"/>
          <p:cNvPicPr/>
          <p:nvPr/>
        </p:nvPicPr>
        <p:blipFill>
          <a:blip r:embed="rId1"/>
          <a:stretch/>
        </p:blipFill>
        <p:spPr>
          <a:xfrm>
            <a:off x="919080" y="971640"/>
            <a:ext cx="7305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22.1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2" descr="PRO_22_019.jpg"/>
          <p:cNvPicPr/>
          <p:nvPr/>
        </p:nvPicPr>
        <p:blipFill>
          <a:blip r:embed="rId1"/>
          <a:stretch/>
        </p:blipFill>
        <p:spPr>
          <a:xfrm>
            <a:off x="2019240" y="971640"/>
            <a:ext cx="51055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22.20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2" descr="PRO_22_020.jpg"/>
          <p:cNvPicPr/>
          <p:nvPr/>
        </p:nvPicPr>
        <p:blipFill>
          <a:blip r:embed="rId1"/>
          <a:stretch/>
        </p:blipFill>
        <p:spPr>
          <a:xfrm>
            <a:off x="2101680" y="971640"/>
            <a:ext cx="4940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unter</a:t>
            </a:r>
            <a:r>
              <a:rPr b="0" lang="ja-JP" sz="11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 chai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22_002.jpg"/>
          <p:cNvPicPr/>
          <p:nvPr/>
        </p:nvPicPr>
        <p:blipFill>
          <a:blip r:embed="rId1"/>
          <a:stretch/>
        </p:blipFill>
        <p:spPr>
          <a:xfrm>
            <a:off x="3111480" y="971640"/>
            <a:ext cx="2921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urvey of quadrangles. (Only a few of the standard corners and closing corners are identified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22_003.jpg"/>
          <p:cNvPicPr/>
          <p:nvPr/>
        </p:nvPicPr>
        <p:blipFill>
          <a:blip r:embed="rId1"/>
          <a:stretch/>
        </p:blipFill>
        <p:spPr>
          <a:xfrm>
            <a:off x="1981080" y="971640"/>
            <a:ext cx="5181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Layout of parallel by tangent method. (Adapted from 1973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anual of Surveying Instructions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(1973)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22_004.jpg"/>
          <p:cNvPicPr/>
          <p:nvPr/>
        </p:nvPicPr>
        <p:blipFill>
          <a:blip r:embed="rId1"/>
          <a:stretch/>
        </p:blipFill>
        <p:spPr>
          <a:xfrm>
            <a:off x="701640" y="971640"/>
            <a:ext cx="7740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Layout of parallel by secant method. (Adapted from 1973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anual of Surveying Instructions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(1973)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22_005.jpg"/>
          <p:cNvPicPr/>
          <p:nvPr/>
        </p:nvPicPr>
        <p:blipFill>
          <a:blip r:embed="rId1"/>
          <a:stretch/>
        </p:blipFill>
        <p:spPr>
          <a:xfrm>
            <a:off x="457200" y="2162160"/>
            <a:ext cx="82296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Order of running lines for the subdivision of a quadrangle into township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22_006.jpg"/>
          <p:cNvPicPr/>
          <p:nvPr/>
        </p:nvPicPr>
        <p:blipFill>
          <a:blip r:embed="rId1"/>
          <a:stretch/>
        </p:blipFill>
        <p:spPr>
          <a:xfrm>
            <a:off x="1927080" y="971640"/>
            <a:ext cx="5289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rrection of random line for excess and falling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22_007.jpg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Order of running lines for the subdivision of a township into section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22_008.jpg"/>
          <p:cNvPicPr/>
          <p:nvPr/>
        </p:nvPicPr>
        <p:blipFill>
          <a:blip r:embed="rId1"/>
          <a:stretch/>
        </p:blipFill>
        <p:spPr>
          <a:xfrm>
            <a:off x="1828800" y="971640"/>
            <a:ext cx="5127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2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ubdivision of regular and fractional section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FG_22_009.jpg"/>
          <p:cNvPicPr/>
          <p:nvPr/>
        </p:nvPicPr>
        <p:blipFill>
          <a:blip r:embed="rId1"/>
          <a:stretch/>
        </p:blipFill>
        <p:spPr>
          <a:xfrm>
            <a:off x="1959120" y="971640"/>
            <a:ext cx="5225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6:33:14Z</dcterms:created>
  <dc:creator>Scott Anstaett</dc:creator>
  <dc:description/>
  <dc:language>en-US</dc:language>
  <cp:lastModifiedBy>Binod</cp:lastModifiedBy>
  <dcterms:modified xsi:type="dcterms:W3CDTF">2015-06-30T09:38:57Z</dcterms:modified>
  <cp:revision>15</cp:revision>
  <dc:subject/>
  <dc:title>1 Introduction</dc:title>
</cp:coreProperties>
</file>