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78DB-7D92-4DAE-BAAF-52FEAC9B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2D55-D203-4E04-A652-0FCF6A665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10E-F576-428A-B149-D08819EB1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AD9-3355-4310-A093-8E967E884E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3EB5-18D6-4B2F-A5C6-D2BB259C3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2C5-46D8-47E5-BD45-1E7005A47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E9A-9E28-4ED2-B074-EB9846F21B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845E-BE45-402E-9049-B68D0BD99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2B63-47E7-42E1-84F6-501185200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81C-46A9-45FE-8490-E655C87A8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8B8-516A-4EBE-8BB7-5699B21E9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E33-AD7B-4E92-BC17-40C33E5AE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5B6-B8F6-4B64-AB02-CE299D853C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5BA-BAF5-411A-9961-DC14F4448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24160" y="3085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PPROXIMATE AREA CONVERSION FACTOR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tab12_01.jpg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880" y="304776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AREA BY DMD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tab12_04.jpg"/>
          <p:cNvPicPr/>
          <p:nvPr/>
        </p:nvPicPr>
        <p:blipFill>
          <a:blip r:embed="rId1"/>
          <a:stretch/>
        </p:blipFill>
        <p:spPr>
          <a:xfrm>
            <a:off x="228600" y="668160"/>
            <a:ext cx="8686800" cy="50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 with circular curve as part of boundar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12_007.jpg"/>
          <p:cNvPicPr/>
          <p:nvPr/>
        </p:nvPicPr>
        <p:blipFill>
          <a:blip r:embed="rId1"/>
          <a:stretch/>
        </p:blipFill>
        <p:spPr>
          <a:xfrm>
            <a:off x="1670040" y="971640"/>
            <a:ext cx="5803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artitioning of lands by simple geometric figur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12_008.jpg"/>
          <p:cNvPicPr/>
          <p:nvPr/>
        </p:nvPicPr>
        <p:blipFill>
          <a:blip r:embed="rId1"/>
          <a:stretch/>
        </p:blipFill>
        <p:spPr>
          <a:xfrm>
            <a:off x="2236680" y="971640"/>
            <a:ext cx="467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lectronic planimeter. (Courtesy Topcon Positioning Systems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12_009.jpg"/>
          <p:cNvPicPr/>
          <p:nvPr/>
        </p:nvPicPr>
        <p:blipFill>
          <a:blip r:embed="rId1"/>
          <a:stretch/>
        </p:blipFill>
        <p:spPr>
          <a:xfrm>
            <a:off x="457200" y="97776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 determination by triang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2_001.jpg"/>
          <p:cNvPicPr/>
          <p:nvPr/>
        </p:nvPicPr>
        <p:blipFill>
          <a:blip r:embed="rId1"/>
          <a:stretch/>
        </p:blipFill>
        <p:spPr>
          <a:xfrm>
            <a:off x="1693800" y="971640"/>
            <a:ext cx="5756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 by offset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2_002.jpg"/>
          <p:cNvPicPr/>
          <p:nvPr/>
        </p:nvPicPr>
        <p:blipFill>
          <a:blip r:embed="rId1"/>
          <a:stretch/>
        </p:blipFill>
        <p:spPr>
          <a:xfrm>
            <a:off x="457200" y="2747880"/>
            <a:ext cx="82296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 by offsets for a tract with a curved boundar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12_003.jpg"/>
          <p:cNvPicPr/>
          <p:nvPr/>
        </p:nvPicPr>
        <p:blipFill>
          <a:blip r:embed="rId1"/>
          <a:stretch/>
        </p:blipFill>
        <p:spPr>
          <a:xfrm>
            <a:off x="457200" y="1760400"/>
            <a:ext cx="82296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rea computation by the coordinate metho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2_004.jpg"/>
          <p:cNvPicPr/>
          <p:nvPr/>
        </p:nvPicPr>
        <p:blipFill>
          <a:blip r:embed="rId1"/>
          <a:stretch/>
        </p:blipFill>
        <p:spPr>
          <a:xfrm>
            <a:off x="2428920" y="971640"/>
            <a:ext cx="4286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averse for computation of area by coordinat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2_005.jpg"/>
          <p:cNvPicPr/>
          <p:nvPr/>
        </p:nvPicPr>
        <p:blipFill>
          <a:blip r:embed="rId1"/>
          <a:stretch/>
        </p:blipFill>
        <p:spPr>
          <a:xfrm>
            <a:off x="2211480" y="971640"/>
            <a:ext cx="4721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1520" y="30477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AREA BY COORDINA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tab12_02.jpg"/>
          <p:cNvPicPr/>
          <p:nvPr/>
        </p:nvPicPr>
        <p:blipFill>
          <a:blip r:embed="rId1"/>
          <a:stretch/>
        </p:blipFill>
        <p:spPr>
          <a:xfrm>
            <a:off x="228600" y="566640"/>
            <a:ext cx="8686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2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eridian distances and traverse area computation by DMD method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2_006.jpg"/>
          <p:cNvPicPr/>
          <p:nvPr/>
        </p:nvPicPr>
        <p:blipFill>
          <a:blip r:embed="rId1"/>
          <a:stretch/>
        </p:blipFill>
        <p:spPr>
          <a:xfrm>
            <a:off x="2546280" y="971640"/>
            <a:ext cx="4051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6880" y="304776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DMD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tab12_03.jpg"/>
          <p:cNvPicPr/>
          <p:nvPr/>
        </p:nvPicPr>
        <p:blipFill>
          <a:blip r:embed="rId1"/>
          <a:stretch/>
        </p:blipFill>
        <p:spPr>
          <a:xfrm>
            <a:off x="1141560" y="228600"/>
            <a:ext cx="6860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9:23:58Z</dcterms:created>
  <dc:creator>Scott Anstaett</dc:creator>
  <dc:description/>
  <dc:language>en-US</dc:language>
  <cp:lastModifiedBy>Binod</cp:lastModifiedBy>
  <cp:lastPrinted>2013-10-16T19:44:44Z</cp:lastPrinted>
  <dcterms:modified xsi:type="dcterms:W3CDTF">2015-06-30T09:36:13Z</dcterms:modified>
  <cp:revision>14</cp:revision>
  <dc:subject/>
  <dc:title>1 Introduction</dc:title>
</cp:coreProperties>
</file>