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B1CE-C11C-4441-9AFB-0F704B423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EA35-F011-42F9-9269-9C104574CB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0FBA-815C-46F9-B932-E673A34B74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B5C7-551D-4215-8772-8109CC399F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BB21-0302-471E-AD47-B5B47FEA08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28E6-2CF9-4718-A75D-174E9C7513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2674-F262-463F-B397-B5D0330069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D099-562E-4228-8887-F9AC8339AC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3E72-5CC6-4959-9A17-22CE9AF875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4707-EAD6-456B-ACC0-7B388F16E8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AC1E-792C-4970-850B-2273DB3CCF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ECA5-6977-4789-8D38-9AD01E97A2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37A6-0A19-44AF-A25D-D93BE73D8F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BD06-705D-4CF8-BA9B-F2FD5E2C99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8DC1-48DF-4053-A9CD-6CB2451193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5DBB-7A41-4E92-A987-5A850EA3F1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8BC4-B062-480D-8BCF-8639042EAC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3236-9583-47DA-9C60-C64221FE81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F0A1-C062-479B-BDE9-903552AE22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8AAA-DEC4-47B1-8C4A-E7C1C75D6F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D9FB-C1C1-468F-B01B-7F8EEA1725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C270-AD17-40C3-9DE6-D635F661E5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1F17-EC08-48C0-BDBD-BEFFF367FA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9D4B-9AFD-4AB8-A6F8-4C31DB7C13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-4680" y="6427800"/>
            <a:ext cx="9161280" cy="430200"/>
          </a:xfrm>
          <a:prstGeom prst="rect">
            <a:avLst/>
          </a:prstGeom>
          <a:solidFill>
            <a:srgbClr val="364395"/>
          </a:solidFill>
          <a:ln w="9360">
            <a:solidFill>
              <a:srgbClr val="364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2" descr="Pearson_Bound_White"/>
          <p:cNvPicPr/>
          <p:nvPr/>
        </p:nvPicPr>
        <p:blipFill>
          <a:blip r:embed="rId2"/>
          <a:stretch/>
        </p:blipFill>
        <p:spPr>
          <a:xfrm>
            <a:off x="7738920" y="6426360"/>
            <a:ext cx="1441440" cy="430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427800"/>
            <a:ext cx="1660680" cy="430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47"/>
          <p:cNvSpPr/>
          <p:nvPr/>
        </p:nvSpPr>
        <p:spPr>
          <a:xfrm>
            <a:off x="1533600" y="6462720"/>
            <a:ext cx="56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mentary Surveying: An Introduction to Geomatics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14e, Global Edi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harles D. Ghilani | Paul R. Wol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267080" y="6450120"/>
            <a:ext cx="365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© 2016 Pearson Education, Ltd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6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A horizontal network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" descr="FG_16_001.jpg"/>
          <p:cNvPicPr/>
          <p:nvPr/>
        </p:nvPicPr>
        <p:blipFill>
          <a:blip r:embed="rId1"/>
          <a:stretch/>
        </p:blipFill>
        <p:spPr>
          <a:xfrm>
            <a:off x="1747800" y="971640"/>
            <a:ext cx="56484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6.8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Observed distance expressed in terms of coordinate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2" descr="FG_16_008.jpg"/>
          <p:cNvPicPr/>
          <p:nvPr/>
        </p:nvPicPr>
        <p:blipFill>
          <a:blip r:embed="rId1"/>
          <a:stretch/>
        </p:blipFill>
        <p:spPr>
          <a:xfrm>
            <a:off x="1143000" y="971640"/>
            <a:ext cx="6858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6.9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Measured angle expressed in terms of coordinates. (Note that an angle is simply the difference between the two azimuths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" descr="FG_16_009.jpg"/>
          <p:cNvPicPr/>
          <p:nvPr/>
        </p:nvPicPr>
        <p:blipFill>
          <a:blip r:embed="rId1"/>
          <a:stretch/>
        </p:blipFill>
        <p:spPr>
          <a:xfrm>
            <a:off x="1057320" y="1028880"/>
            <a:ext cx="70293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09760" y="3123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6.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DISTANCE OBSERVATIONS FOR NETWORK SHOWN IN FIGURE 16.1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Picture 2" descr="tab16_03.jpg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3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312372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6.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ANGLE OBSERVATIONS FOR NETWORK SHOWN IN FIGURE 16.1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2" descr="tab16_04.jpg"/>
          <p:cNvPicPr/>
          <p:nvPr/>
        </p:nvPicPr>
        <p:blipFill>
          <a:blip r:embed="rId1"/>
          <a:stretch/>
        </p:blipFill>
        <p:spPr>
          <a:xfrm>
            <a:off x="1060560" y="228600"/>
            <a:ext cx="7022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6.10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Data file for adjustment of Figure 16.1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2" descr="FG_16_010.jpg"/>
          <p:cNvPicPr/>
          <p:nvPr/>
        </p:nvPicPr>
        <p:blipFill>
          <a:blip r:embed="rId1"/>
          <a:stretch/>
        </p:blipFill>
        <p:spPr>
          <a:xfrm>
            <a:off x="1424160" y="971640"/>
            <a:ext cx="62956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6.1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Abbreviated results from adjustment of data file in Figure 16.10 from WOLFPACK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" name="Picture 2" descr="FG_16_011.jpg"/>
          <p:cNvPicPr/>
          <p:nvPr/>
        </p:nvPicPr>
        <p:blipFill>
          <a:blip r:embed="rId1"/>
          <a:stretch/>
        </p:blipFill>
        <p:spPr>
          <a:xfrm>
            <a:off x="2044800" y="971640"/>
            <a:ext cx="50544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6.1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Error ellipses plotted at 200 times their actual size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2" descr="FG_16_012.jpg"/>
          <p:cNvPicPr/>
          <p:nvPr/>
        </p:nvPicPr>
        <p:blipFill>
          <a:blip r:embed="rId1"/>
          <a:stretch/>
        </p:blipFill>
        <p:spPr>
          <a:xfrm>
            <a:off x="1731960" y="971640"/>
            <a:ext cx="56800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6.1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Differential leveling loop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Picture 2" descr="FG_16_013.jpg"/>
          <p:cNvPicPr/>
          <p:nvPr/>
        </p:nvPicPr>
        <p:blipFill>
          <a:blip r:embed="rId1"/>
          <a:stretch/>
        </p:blipFill>
        <p:spPr>
          <a:xfrm>
            <a:off x="457200" y="1616040"/>
            <a:ext cx="822960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6.5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F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Verdana"/>
              </a:rPr>
              <a:t>α,2,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Verdana"/>
              </a:rPr>
              <a:t>degrees of freedom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RITICAL STATISTIC VALUES FOR SELECTED PROBABILITIE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2" descr="tab16_05.jpg"/>
          <p:cNvPicPr/>
          <p:nvPr/>
        </p:nvPicPr>
        <p:blipFill>
          <a:blip r:embed="rId1"/>
          <a:stretch/>
        </p:blipFill>
        <p:spPr>
          <a:xfrm>
            <a:off x="228600" y="604800"/>
            <a:ext cx="86868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roblem 16.11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2" descr="PRO_16_11.jpg"/>
          <p:cNvPicPr/>
          <p:nvPr/>
        </p:nvPicPr>
        <p:blipFill>
          <a:blip r:embed="rId1"/>
          <a:stretch/>
        </p:blipFill>
        <p:spPr>
          <a:xfrm>
            <a:off x="457200" y="1486080"/>
            <a:ext cx="8229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6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Equally weighted distance observations of Example 16.3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2" descr="FG_16_002.jpg"/>
          <p:cNvPicPr/>
          <p:nvPr/>
        </p:nvPicPr>
        <p:blipFill>
          <a:blip r:embed="rId1"/>
          <a:stretch/>
        </p:blipFill>
        <p:spPr>
          <a:xfrm>
            <a:off x="457200" y="2425680"/>
            <a:ext cx="82296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roblem 16.16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" descr="PRO_16_16.jpg"/>
          <p:cNvPicPr/>
          <p:nvPr/>
        </p:nvPicPr>
        <p:blipFill>
          <a:blip r:embed="rId1"/>
          <a:stretch/>
        </p:blipFill>
        <p:spPr>
          <a:xfrm>
            <a:off x="858960" y="971640"/>
            <a:ext cx="74260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roblem 16.18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2" descr="PRO_16_18.jpg"/>
          <p:cNvPicPr/>
          <p:nvPr/>
        </p:nvPicPr>
        <p:blipFill>
          <a:blip r:embed="rId1"/>
          <a:stretch/>
        </p:blipFill>
        <p:spPr>
          <a:xfrm>
            <a:off x="2025720" y="971640"/>
            <a:ext cx="50925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roblem 16.23 through 16.28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2" descr="PRO_16_23_through_28.jpg"/>
          <p:cNvPicPr/>
          <p:nvPr/>
        </p:nvPicPr>
        <p:blipFill>
          <a:blip r:embed="rId1"/>
          <a:stretch/>
        </p:blipFill>
        <p:spPr>
          <a:xfrm>
            <a:off x="557280" y="971640"/>
            <a:ext cx="80294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roblem 16.29 through 16.32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2" descr="PRO_16_29_through_32.jpg"/>
          <p:cNvPicPr/>
          <p:nvPr/>
        </p:nvPicPr>
        <p:blipFill>
          <a:blip r:embed="rId1"/>
          <a:stretch/>
        </p:blipFill>
        <p:spPr>
          <a:xfrm>
            <a:off x="2357280" y="971640"/>
            <a:ext cx="44294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6.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Level net for Example 16.6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2" descr="FG_16_003.jpg"/>
          <p:cNvPicPr/>
          <p:nvPr/>
        </p:nvPicPr>
        <p:blipFill>
          <a:blip r:embed="rId1"/>
          <a:stretch/>
        </p:blipFill>
        <p:spPr>
          <a:xfrm>
            <a:off x="457200" y="1690560"/>
            <a:ext cx="82296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6.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WOLFPACK data file for Example 16.6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2" descr="FG_16_004.jpg"/>
          <p:cNvPicPr/>
          <p:nvPr/>
        </p:nvPicPr>
        <p:blipFill>
          <a:blip r:embed="rId1"/>
          <a:stretch/>
        </p:blipFill>
        <p:spPr>
          <a:xfrm>
            <a:off x="457200" y="2550960"/>
            <a:ext cx="82296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6.5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Results from adjustment of data in Example 16.6 using WOLFPACK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2" descr="FG_16_005.jpg"/>
          <p:cNvPicPr/>
          <p:nvPr/>
        </p:nvPicPr>
        <p:blipFill>
          <a:blip r:embed="rId1"/>
          <a:stretch/>
        </p:blipFill>
        <p:spPr>
          <a:xfrm>
            <a:off x="1101600" y="971640"/>
            <a:ext cx="69408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3123720"/>
            <a:ext cx="5333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6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OBSERVED BASELINE VECTORS AND THEIR COVARIANCE MATRIX VALUES FOR FIGURE 14.10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" descr="tab16_01.jpg"/>
          <p:cNvPicPr/>
          <p:nvPr/>
        </p:nvPicPr>
        <p:blipFill>
          <a:blip r:embed="rId1"/>
          <a:stretch/>
        </p:blipFill>
        <p:spPr>
          <a:xfrm>
            <a:off x="228600" y="1413000"/>
            <a:ext cx="868680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62320" y="3123720"/>
            <a:ext cx="4419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6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HARN STATION GEOCENTRIC COORDINATE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2" descr="tab16_02.jpg"/>
          <p:cNvPicPr/>
          <p:nvPr/>
        </p:nvPicPr>
        <p:blipFill>
          <a:blip r:embed="rId1"/>
          <a:stretch/>
        </p:blipFill>
        <p:spPr>
          <a:xfrm>
            <a:off x="228600" y="1925640"/>
            <a:ext cx="86868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6.6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Input file for least-squares adjustment problem in Section 16.8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2" descr="FG_16_006.jpg"/>
          <p:cNvPicPr/>
          <p:nvPr/>
        </p:nvPicPr>
        <p:blipFill>
          <a:blip r:embed="rId1"/>
          <a:stretch/>
        </p:blipFill>
        <p:spPr>
          <a:xfrm>
            <a:off x="457200" y="2060640"/>
            <a:ext cx="82296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6.7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Results of adjustment of data file in Figure 16.6 using WOLFPACK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2" descr="FG_16_007.jpg"/>
          <p:cNvPicPr/>
          <p:nvPr/>
        </p:nvPicPr>
        <p:blipFill>
          <a:blip r:embed="rId1"/>
          <a:stretch/>
        </p:blipFill>
        <p:spPr>
          <a:xfrm>
            <a:off x="2181240" y="971640"/>
            <a:ext cx="47815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20:54:07Z</dcterms:created>
  <dc:creator>Scott Anstaett</dc:creator>
  <dc:description/>
  <dc:language>en-US</dc:language>
  <cp:lastModifiedBy>Binod</cp:lastModifiedBy>
  <dcterms:modified xsi:type="dcterms:W3CDTF">2015-06-30T09:37:10Z</dcterms:modified>
  <cp:revision>14</cp:revision>
  <dc:subject/>
  <dc:title>1 Introduction</dc:title>
</cp:coreProperties>
</file>