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444C-2531-4C11-87A4-06BE81B1A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C77A-ECC3-45D0-AB3C-17671F0FE1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8E69-9F0F-4B70-9B8A-763A34DEF1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B562-6EF9-44E6-8685-A7CCCF9ACA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D781-492F-42D5-B95A-6A5374A662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CDB0-401C-4D13-9B16-CD5C8D06B0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4AF7-8A9A-481A-A459-1FFE02DFD4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BE79-0755-4CAB-A27D-AFA91DF53B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7B8D-EB76-46F7-BEDC-E2FC782D31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BD19-E1C6-4886-9CD4-C45B6BA61C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5C3D-EBB1-4322-8701-46BE666DBB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FCCC-EA16-461E-BBC3-59AF8CE542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DF92-44D7-4319-B457-3BD61EDA81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F18F-50F2-461E-A91D-87ED191863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0673-EB58-4E78-88B4-295ABCAE39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-4680" y="6427800"/>
            <a:ext cx="9161280" cy="430200"/>
          </a:xfrm>
          <a:prstGeom prst="rect">
            <a:avLst/>
          </a:prstGeom>
          <a:solidFill>
            <a:srgbClr val="364395"/>
          </a:solidFill>
          <a:ln w="9360">
            <a:solidFill>
              <a:srgbClr val="364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2" descr="Pearson_Bound_White"/>
          <p:cNvPicPr/>
          <p:nvPr/>
        </p:nvPicPr>
        <p:blipFill>
          <a:blip r:embed="rId2"/>
          <a:stretch/>
        </p:blipFill>
        <p:spPr>
          <a:xfrm>
            <a:off x="7738920" y="6426360"/>
            <a:ext cx="1441440" cy="430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427800"/>
            <a:ext cx="1660680" cy="430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47"/>
          <p:cNvSpPr/>
          <p:nvPr/>
        </p:nvSpPr>
        <p:spPr>
          <a:xfrm>
            <a:off x="1533600" y="6462720"/>
            <a:ext cx="56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mentary Surveying: An Introduction to Geomatics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14e, Global Edi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harles D. Ghilani | Paul R. Wol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267080" y="6450120"/>
            <a:ext cx="3657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© 2016 Pearson Education, Ltd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8.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(a) The layout of a poorly balanced map sheet. (b) A better layout for the same map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2" descr="FG_18_001.jpg"/>
          <p:cNvPicPr/>
          <p:nvPr/>
        </p:nvPicPr>
        <p:blipFill>
          <a:blip r:embed="rId1"/>
          <a:stretch/>
        </p:blipFill>
        <p:spPr>
          <a:xfrm>
            <a:off x="954000" y="971640"/>
            <a:ext cx="7236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8.10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hree-dimensional perspective grid. [Courtesy Pennsylvania Department of Transportation (PennDOT).]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2" descr="FG_18_010.jpg"/>
          <p:cNvPicPr/>
          <p:nvPr/>
        </p:nvPicPr>
        <p:blipFill>
          <a:blip r:embed="rId1"/>
          <a:stretch/>
        </p:blipFill>
        <p:spPr>
          <a:xfrm>
            <a:off x="457200" y="1460520"/>
            <a:ext cx="822960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8.1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Engineering design map prepared using CADD system. (Courtesy Wisconsin Department of Transportation.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2" descr="FG_18_011.jpg"/>
          <p:cNvPicPr/>
          <p:nvPr/>
        </p:nvPicPr>
        <p:blipFill>
          <a:blip r:embed="rId1"/>
          <a:stretch/>
        </p:blipFill>
        <p:spPr>
          <a:xfrm>
            <a:off x="2968560" y="971640"/>
            <a:ext cx="32068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8.1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Subdivision map compiled automatically by computer-driven plotter. (Courtesy Technical Advisors, Inc.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Picture 2" descr="FG_18_012.jpg"/>
          <p:cNvPicPr/>
          <p:nvPr/>
        </p:nvPicPr>
        <p:blipFill>
          <a:blip r:embed="rId1"/>
          <a:stretch/>
        </p:blipFill>
        <p:spPr>
          <a:xfrm>
            <a:off x="2957400" y="971640"/>
            <a:ext cx="32292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8.1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A portion of a file of landxml code from a field-to-finish survey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2" descr="FG_18_013.jpg"/>
          <p:cNvPicPr/>
          <p:nvPr/>
        </p:nvPicPr>
        <p:blipFill>
          <a:blip r:embed="rId1"/>
          <a:stretch/>
        </p:blipFill>
        <p:spPr>
          <a:xfrm>
            <a:off x="457200" y="1762200"/>
            <a:ext cx="82296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Problem 18.25 through 18.27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2" descr="PRO_18_025_through_27.jpg"/>
          <p:cNvPicPr/>
          <p:nvPr/>
        </p:nvPicPr>
        <p:blipFill>
          <a:blip r:embed="rId1"/>
          <a:stretch/>
        </p:blipFill>
        <p:spPr>
          <a:xfrm>
            <a:off x="2033640" y="971640"/>
            <a:ext cx="5076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8.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Map layout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Picture 2" descr="FG_18_002.jpg"/>
          <p:cNvPicPr/>
          <p:nvPr/>
        </p:nvPicPr>
        <p:blipFill>
          <a:blip r:embed="rId1"/>
          <a:stretch/>
        </p:blipFill>
        <p:spPr>
          <a:xfrm>
            <a:off x="646200" y="971640"/>
            <a:ext cx="78516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8.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A visually closed feature versus a physically closed feature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Picture 2" descr="FG_18_003.jpg"/>
          <p:cNvPicPr/>
          <p:nvPr/>
        </p:nvPicPr>
        <p:blipFill>
          <a:blip r:embed="rId1"/>
          <a:stretch/>
        </p:blipFill>
        <p:spPr>
          <a:xfrm>
            <a:off x="1490760" y="971640"/>
            <a:ext cx="61624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8.4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Interpolating using engineer's scale and triangle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2" descr="FG_18_004.jpg"/>
          <p:cNvPicPr/>
          <p:nvPr/>
        </p:nvPicPr>
        <p:blipFill>
          <a:blip r:embed="rId1"/>
          <a:stretch/>
        </p:blipFill>
        <p:spPr>
          <a:xfrm>
            <a:off x="1384200" y="971640"/>
            <a:ext cx="63756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8.5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opographic symbol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2" descr="FG_18_005.jpg"/>
          <p:cNvPicPr/>
          <p:nvPr/>
        </p:nvPicPr>
        <p:blipFill>
          <a:blip r:embed="rId1"/>
          <a:stretch/>
        </p:blipFill>
        <p:spPr>
          <a:xfrm>
            <a:off x="3090960" y="971640"/>
            <a:ext cx="29620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8.6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ypical graphical scales in mapping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2" descr="FG_18_006.jpg"/>
          <p:cNvPicPr/>
          <p:nvPr/>
        </p:nvPicPr>
        <p:blipFill>
          <a:blip r:embed="rId1"/>
          <a:stretch/>
        </p:blipFill>
        <p:spPr>
          <a:xfrm>
            <a:off x="457200" y="3098880"/>
            <a:ext cx="822960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8.7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itle arrangement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2" descr="FG_18_007.jpg"/>
          <p:cNvPicPr/>
          <p:nvPr/>
        </p:nvPicPr>
        <p:blipFill>
          <a:blip r:embed="rId1"/>
          <a:stretch/>
        </p:blipFill>
        <p:spPr>
          <a:xfrm>
            <a:off x="457200" y="1747800"/>
            <a:ext cx="822960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8.8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(a) Triangulated irregular network (TIN) model derived from digital-elevation model. (b) Contours derived by automated mapping system from TIN model of (a). Note the roadway edges were defined by breaklines in (a). (Courtesy Wisconsin Department of Transportation.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2" descr="FG_18_008.jpg"/>
          <p:cNvPicPr/>
          <p:nvPr/>
        </p:nvPicPr>
        <p:blipFill>
          <a:blip r:embed="rId1"/>
          <a:stretch/>
        </p:blipFill>
        <p:spPr>
          <a:xfrm>
            <a:off x="457200" y="1127160"/>
            <a:ext cx="822960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8.9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Automated contouring of TIN example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2" descr="FG_18_009.jpg"/>
          <p:cNvPicPr/>
          <p:nvPr/>
        </p:nvPicPr>
        <p:blipFill>
          <a:blip r:embed="rId1"/>
          <a:stretch/>
        </p:blipFill>
        <p:spPr>
          <a:xfrm>
            <a:off x="457200" y="1501920"/>
            <a:ext cx="822960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5:20:26Z</dcterms:created>
  <dc:creator>Scott Anstaett</dc:creator>
  <dc:description/>
  <dc:language>en-US</dc:language>
  <cp:lastModifiedBy>Binod</cp:lastModifiedBy>
  <dcterms:modified xsi:type="dcterms:W3CDTF">2015-06-30T09:37:50Z</dcterms:modified>
  <cp:revision>13</cp:revision>
  <dc:subject/>
  <dc:title>1 Introduction</dc:title>
</cp:coreProperties>
</file>