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F275-F161-4EF8-AD92-9C14D6E0C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3D94-76C2-4A2F-8CB6-6D4B3240EE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44C4-6B7D-412A-82B8-8BF539EC4D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1A00-DF11-4A9E-9541-51F1AB585F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3A02-5A81-4F04-95D4-C0EAC21B9F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1C84-F7D8-4001-BF82-6A9FD05C15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79C5-3CF8-4C8B-9D4B-663C3EAA29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C1DB-C76C-432D-AFE8-4031F72A18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30A9-58D8-48A9-A427-ABA28C9FA9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77F4-1CC8-4AD9-B3AF-970D54CBD9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0FB6-AA74-4562-B28A-EEF2FE5F7F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409F-3933-4089-9065-4286BC5547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9A0E-8427-4AE0-BD15-752DEB98A1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96D4-8222-4BF5-8DD4-2B0A29E365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6CC1-8878-465E-A49E-D997FD5123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14C4-E3B5-4D9F-8190-9A8D11A2E0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-4680" y="6427800"/>
            <a:ext cx="9161280" cy="430200"/>
          </a:xfrm>
          <a:prstGeom prst="rect">
            <a:avLst/>
          </a:prstGeom>
          <a:solidFill>
            <a:srgbClr val="364395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2" descr="Pearson_Bound_White"/>
          <p:cNvPicPr/>
          <p:nvPr/>
        </p:nvPicPr>
        <p:blipFill>
          <a:blip r:embed="rId2"/>
          <a:stretch/>
        </p:blipFill>
        <p:spPr>
          <a:xfrm>
            <a:off x="7738920" y="642636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427800"/>
            <a:ext cx="166068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47"/>
          <p:cNvSpPr/>
          <p:nvPr/>
        </p:nvSpPr>
        <p:spPr>
          <a:xfrm>
            <a:off x="1533600" y="646272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mentary Surveying: An Introduction to Geomatic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14e, Global Edi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harles D. Ghilani | Paul R. Wol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267080" y="6450120"/>
            <a:ext cx="365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© 2016 Pearson Education, Lt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6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Section of roadway illustrating excavation (cut) and embankment (fill)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" descr="FG_26_001.jpg"/>
          <p:cNvPicPr/>
          <p:nvPr/>
        </p:nvPicPr>
        <p:blipFill>
          <a:blip r:embed="rId1"/>
          <a:stretch/>
        </p:blipFill>
        <p:spPr>
          <a:xfrm>
            <a:off x="2006640" y="971640"/>
            <a:ext cx="5130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6.7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Borrow-pit leveling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2" descr="FG_26_007.jpg"/>
          <p:cNvPicPr/>
          <p:nvPr/>
        </p:nvPicPr>
        <p:blipFill>
          <a:blip r:embed="rId1"/>
          <a:stretch/>
        </p:blipFill>
        <p:spPr>
          <a:xfrm>
            <a:off x="2085840" y="971640"/>
            <a:ext cx="49723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6.8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Determining the volume of water impounded in a reservoir by the contour-area method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" descr="FG_26_008.jpg"/>
          <p:cNvPicPr/>
          <p:nvPr/>
        </p:nvPicPr>
        <p:blipFill>
          <a:blip r:embed="rId1"/>
          <a:stretch/>
        </p:blipFill>
        <p:spPr>
          <a:xfrm>
            <a:off x="2717640" y="971640"/>
            <a:ext cx="370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66960" y="31237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26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VOLUME COMPUTATION BY CONTOUR-AREA METHO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2" descr="tab26_04.jpg"/>
          <p:cNvPicPr/>
          <p:nvPr/>
        </p:nvPicPr>
        <p:blipFill>
          <a:blip r:embed="rId1"/>
          <a:stretch/>
        </p:blipFill>
        <p:spPr>
          <a:xfrm>
            <a:off x="1143000" y="1257480"/>
            <a:ext cx="68580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6.9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Vertical sections for making stream discharge measurement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2" descr="FG_26_009.jpg"/>
          <p:cNvPicPr/>
          <p:nvPr/>
        </p:nvPicPr>
        <p:blipFill>
          <a:blip r:embed="rId1"/>
          <a:stretch/>
        </p:blipFill>
        <p:spPr>
          <a:xfrm>
            <a:off x="457200" y="2548080"/>
            <a:ext cx="82296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6.10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End-area computations in WOLFPACK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2" descr="FG_26_010.jpg"/>
          <p:cNvPicPr/>
          <p:nvPr/>
        </p:nvPicPr>
        <p:blipFill>
          <a:blip r:embed="rId1"/>
          <a:stretch/>
        </p:blipFill>
        <p:spPr>
          <a:xfrm>
            <a:off x="457200" y="1859040"/>
            <a:ext cx="82296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6.1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Data file and resultant end-area computations fil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Picture 2" descr="FG_26_011.jpg"/>
          <p:cNvPicPr/>
          <p:nvPr/>
        </p:nvPicPr>
        <p:blipFill>
          <a:blip r:embed="rId1"/>
          <a:stretch/>
        </p:blipFill>
        <p:spPr>
          <a:xfrm>
            <a:off x="1219320" y="971640"/>
            <a:ext cx="67053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6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Earthwork section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2" descr="FG_26_002.jpg"/>
          <p:cNvPicPr/>
          <p:nvPr/>
        </p:nvPicPr>
        <p:blipFill>
          <a:blip r:embed="rId1"/>
          <a:stretch/>
        </p:blipFill>
        <p:spPr>
          <a:xfrm>
            <a:off x="2260440" y="971640"/>
            <a:ext cx="46231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6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Volume by average-end-area-method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2" descr="FG_26_003.jpg"/>
          <p:cNvPicPr/>
          <p:nvPr/>
        </p:nvPicPr>
        <p:blipFill>
          <a:blip r:embed="rId1"/>
          <a:stretch/>
        </p:blipFill>
        <p:spPr>
          <a:xfrm>
            <a:off x="457200" y="1352520"/>
            <a:ext cx="8229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6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End-area computation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2" descr="FG_26_004.jpg"/>
          <p:cNvPicPr/>
          <p:nvPr/>
        </p:nvPicPr>
        <p:blipFill>
          <a:blip r:embed="rId1"/>
          <a:stretch/>
        </p:blipFill>
        <p:spPr>
          <a:xfrm>
            <a:off x="457200" y="1428840"/>
            <a:ext cx="82296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28720" y="312372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26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ALCULATING END AREA WITH SIMPLE FIGUR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" descr="tab26_01.jpg"/>
          <p:cNvPicPr/>
          <p:nvPr/>
        </p:nvPicPr>
        <p:blipFill>
          <a:blip r:embed="rId1"/>
          <a:stretch/>
        </p:blipFill>
        <p:spPr>
          <a:xfrm>
            <a:off x="1371600" y="1123920"/>
            <a:ext cx="64008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920" y="31237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26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ALCULATING END AREAS WITH COORDINAT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" descr="tab26_02.jpg"/>
          <p:cNvPicPr/>
          <p:nvPr/>
        </p:nvPicPr>
        <p:blipFill>
          <a:blip r:embed="rId1"/>
          <a:stretch/>
        </p:blipFill>
        <p:spPr>
          <a:xfrm>
            <a:off x="1190520" y="228600"/>
            <a:ext cx="6762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6.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mputation of slope intercept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of Figure 26.4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2" descr="FG_26_005.jpg"/>
          <p:cNvPicPr/>
          <p:nvPr/>
        </p:nvPicPr>
        <p:blipFill>
          <a:blip r:embed="rId1"/>
          <a:stretch/>
        </p:blipFill>
        <p:spPr>
          <a:xfrm>
            <a:off x="579600" y="971640"/>
            <a:ext cx="79848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6.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Sections for which the prismoidal correction is added to the end-area volum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2" descr="FG_26_006.jpg"/>
          <p:cNvPicPr/>
          <p:nvPr/>
        </p:nvPicPr>
        <p:blipFill>
          <a:blip r:embed="rId1"/>
          <a:stretch/>
        </p:blipFill>
        <p:spPr>
          <a:xfrm>
            <a:off x="457200" y="1440000"/>
            <a:ext cx="822960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0" y="312372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26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ABULAR FORM OF VOLUME COMPUTATION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2" descr="tab26_03.jpg"/>
          <p:cNvPicPr/>
          <p:nvPr/>
        </p:nvPicPr>
        <p:blipFill>
          <a:blip r:embed="rId1"/>
          <a:stretch/>
        </p:blipFill>
        <p:spPr>
          <a:xfrm>
            <a:off x="1031760" y="228600"/>
            <a:ext cx="708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7:30:47Z</dcterms:created>
  <dc:creator>Scott Anstaett</dc:creator>
  <dc:description/>
  <dc:language>en-US</dc:language>
  <cp:lastModifiedBy>Binod</cp:lastModifiedBy>
  <dcterms:modified xsi:type="dcterms:W3CDTF">2015-06-30T09:40:16Z</dcterms:modified>
  <cp:revision>14</cp:revision>
  <dc:subject/>
  <dc:title>1 Introduction</dc:title>
</cp:coreProperties>
</file>