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729-93C7-4072-A8EC-918EB97A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4EC-CF70-400D-967B-B9A254872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F32-EDE6-4D84-A3F3-D4F615363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F30-B5FE-4379-9B69-08F0C94F6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E041-5CC4-44B2-A087-ACF32E195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7131-9B07-40FC-9601-76F6338AA6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69A-58FE-4171-BD70-2459D8F534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C6D-C5F1-4421-9B01-62D222097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1DB5-04CD-4BA4-904A-39F9F3EC63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B76-1F2D-4CC6-9949-AF899117C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E20A-1AEB-4A9E-93DF-FB2C01DF04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9E8-080D-4FAE-A232-4B4301C62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2F9-6A01-41F3-83C1-F05C6A993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669-11C8-49E8-A949-4C9FE34B2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38C-9078-4FB8-9D48-D53839A89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476-5F7F-44C8-B709-33025415E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7FDC-C67E-46D8-BADC-CF54D6D8F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0B62-B872-46C5-88B5-08B4C224C6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F8A5-C16A-4698-AB32-2DD669F602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avers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10_001.jpg"/>
          <p:cNvPicPr/>
          <p:nvPr/>
        </p:nvPicPr>
        <p:blipFill>
          <a:blip r:embed="rId1"/>
          <a:stretch/>
        </p:blipFill>
        <p:spPr>
          <a:xfrm>
            <a:off x="1739880" y="971640"/>
            <a:ext cx="56642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9760" y="30477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RAVERSE ADJUSTMENT BY COORDINA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tab10_06.jpg"/>
          <p:cNvPicPr/>
          <p:nvPr/>
        </p:nvPicPr>
        <p:blipFill>
          <a:blip r:embed="rId1"/>
          <a:stretch/>
        </p:blipFill>
        <p:spPr>
          <a:xfrm>
            <a:off x="228600" y="870120"/>
            <a:ext cx="86868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4320" y="30477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INAL ADJUSTED LENGTHS AND DIRECTIONS FOR TRAVERSE OF EXAMPLE 10.4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tab10_07.jpg"/>
          <p:cNvPicPr/>
          <p:nvPr/>
        </p:nvPicPr>
        <p:blipFill>
          <a:blip r:embed="rId1"/>
          <a:stretch/>
        </p:blipFill>
        <p:spPr>
          <a:xfrm>
            <a:off x="228600" y="1482840"/>
            <a:ext cx="868680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8360" y="312372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INAL ADJUSTED LENGTHS AND DIRECTIONS FOR TRAVERSE OF EXAMPLE 10.7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10_08.jpg"/>
          <p:cNvPicPr/>
          <p:nvPr/>
        </p:nvPicPr>
        <p:blipFill>
          <a:blip r:embed="rId1"/>
          <a:stretch/>
        </p:blipFill>
        <p:spPr>
          <a:xfrm>
            <a:off x="228600" y="1655640"/>
            <a:ext cx="86868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31237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INAL ADJUSTED ANGLES FOR EXAMPLE 10.4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tab10_09.jpg"/>
          <p:cNvPicPr/>
          <p:nvPr/>
        </p:nvPicPr>
        <p:blipFill>
          <a:blip r:embed="rId1"/>
          <a:stretch/>
        </p:blipFill>
        <p:spPr>
          <a:xfrm>
            <a:off x="228600" y="1862280"/>
            <a:ext cx="86868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lot of traverse for a boundary survey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10_004.jpg"/>
          <p:cNvPicPr/>
          <p:nvPr/>
        </p:nvPicPr>
        <p:blipFill>
          <a:blip r:embed="rId1"/>
          <a:stretch/>
        </p:blipFill>
        <p:spPr>
          <a:xfrm>
            <a:off x="2057400" y="971640"/>
            <a:ext cx="5029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losing line of an open travers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10_005.jpg"/>
          <p:cNvPicPr/>
          <p:nvPr/>
        </p:nvPicPr>
        <p:blipFill>
          <a:blip r:embed="rId1"/>
          <a:stretch/>
        </p:blipFill>
        <p:spPr>
          <a:xfrm>
            <a:off x="2301840" y="971640"/>
            <a:ext cx="4540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31237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S FOR CLOSING LIN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tab10_10.jpg"/>
          <p:cNvPicPr/>
          <p:nvPr/>
        </p:nvPicPr>
        <p:blipFill>
          <a:blip r:embed="rId1"/>
          <a:stretch/>
        </p:blipFill>
        <p:spPr>
          <a:xfrm>
            <a:off x="228600" y="598320"/>
            <a:ext cx="86868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ata file and output file of traverse computations using WOLFPACK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3" descr="FG_10_006.jpg"/>
          <p:cNvPicPr/>
          <p:nvPr/>
        </p:nvPicPr>
        <p:blipFill>
          <a:blip r:embed="rId1"/>
          <a:stretch/>
        </p:blipFill>
        <p:spPr>
          <a:xfrm>
            <a:off x="2695680" y="971640"/>
            <a:ext cx="3752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Locating a distance (a) or angle (b) blunder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G_10_007.jpg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304776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DJUSTMENT OF ANGL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tab10_01a.jpg"/>
          <p:cNvPicPr/>
          <p:nvPr/>
        </p:nvPicPr>
        <p:blipFill>
          <a:blip r:embed="rId1"/>
          <a:stretch/>
        </p:blipFill>
        <p:spPr>
          <a:xfrm>
            <a:off x="228600" y="1103400"/>
            <a:ext cx="86868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304776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1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DJUSTMENT OF ANGL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tab10_01b.jpg"/>
          <p:cNvPicPr/>
          <p:nvPr/>
        </p:nvPicPr>
        <p:blipFill>
          <a:blip r:embed="rId1"/>
          <a:stretch/>
        </p:blipFill>
        <p:spPr>
          <a:xfrm>
            <a:off x="228600" y="930240"/>
            <a:ext cx="86868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1237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PRELIMINARY AZIMUTH USING THE TABULAR METHO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tab10_02.jpg"/>
          <p:cNvPicPr/>
          <p:nvPr/>
        </p:nvPicPr>
        <p:blipFill>
          <a:blip r:embed="rId1"/>
          <a:stretch/>
        </p:blipFill>
        <p:spPr>
          <a:xfrm>
            <a:off x="228600" y="998640"/>
            <a:ext cx="8686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azimuth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10_002.jpg"/>
          <p:cNvPicPr/>
          <p:nvPr/>
        </p:nvPicPr>
        <p:blipFill>
          <a:blip r:embed="rId1"/>
          <a:stretch/>
        </p:blipFill>
        <p:spPr>
          <a:xfrm>
            <a:off x="1347840" y="971640"/>
            <a:ext cx="64483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10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parture and latitude of a lin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10_003.jpg"/>
          <p:cNvPicPr/>
          <p:nvPr/>
        </p:nvPicPr>
        <p:blipFill>
          <a:blip r:embed="rId1"/>
          <a:stretch/>
        </p:blipFill>
        <p:spPr>
          <a:xfrm>
            <a:off x="1684440" y="971640"/>
            <a:ext cx="5775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312372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DEPARTURES AND LATITUD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tab10_03.jpg"/>
          <p:cNvPicPr/>
          <p:nvPr/>
        </p:nvPicPr>
        <p:blipFill>
          <a:blip r:embed="rId1"/>
          <a:stretch/>
        </p:blipFill>
        <p:spPr>
          <a:xfrm>
            <a:off x="228600" y="1427040"/>
            <a:ext cx="86868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1237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ALANCING DEPARTURES AND LATITUDES BY THE COMPASS (BOWDITCH) RUL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tab10_04.jpg"/>
          <p:cNvPicPr/>
          <p:nvPr/>
        </p:nvPicPr>
        <p:blipFill>
          <a:blip r:embed="rId1"/>
          <a:stretch/>
        </p:blipFill>
        <p:spPr>
          <a:xfrm>
            <a:off x="228600" y="770040"/>
            <a:ext cx="86868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95560" y="30477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ALANCING TRAVERSE AZIMUTH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" descr="tab10_05.jpg"/>
          <p:cNvPicPr/>
          <p:nvPr/>
        </p:nvPicPr>
        <p:blipFill>
          <a:blip r:embed="rId1"/>
          <a:stretch/>
        </p:blipFill>
        <p:spPr>
          <a:xfrm>
            <a:off x="1366920" y="228600"/>
            <a:ext cx="6410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8:46:48Z</dcterms:created>
  <dc:creator>Scott Anstaett</dc:creator>
  <dc:description/>
  <dc:language>en-US</dc:language>
  <cp:lastModifiedBy>Binod</cp:lastModifiedBy>
  <dcterms:modified xsi:type="dcterms:W3CDTF">2015-06-30T09:35:46Z</dcterms:modified>
  <cp:revision>16</cp:revision>
  <dc:subject/>
  <dc:title>1 Introduction</dc:title>
</cp:coreProperties>
</file>