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2C1A-4B60-4CB8-BECA-111E2C2D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0BFE-5B56-4274-BBCB-709F20DC06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EF7-06E4-4DCF-B8FD-E9B4F09063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C127-4BE3-47EC-A720-F0C8C64311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73CD-42C5-4F93-BE6F-258C215EBB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A9CD-3D96-4F8F-B9F1-C14554D240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E539-D417-42E3-814B-4DB67DCBA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C94A-FCB6-4456-A711-9F11CA737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9D6-4BD9-457F-B150-72B68F70A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F16B-5CFD-4DDC-85F6-18A429847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2219-C6E5-4651-8CC7-5D3F29B81B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1A5-34E2-4FA8-B237-5CF79151B0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487-B1B7-45C1-9C39-2BE9DA2F60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C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stronomic meridian, astronomic azimuth, latitude, and longitud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3" descr="FG_AppC_001.jpg"/>
          <p:cNvPicPr/>
          <p:nvPr/>
        </p:nvPicPr>
        <p:blipFill>
          <a:blip r:embed="rId1"/>
          <a:stretch/>
        </p:blipFill>
        <p:spPr>
          <a:xfrm>
            <a:off x="1706400" y="971640"/>
            <a:ext cx="5731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2040" y="3123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C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LATIONSHIP BETWEEN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LHA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, SIGN OF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, AND AZIMUTH OF STA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3" descr="tabappc_03.jpg"/>
          <p:cNvPicPr/>
          <p:nvPr/>
        </p:nvPicPr>
        <p:blipFill>
          <a:blip r:embed="rId1"/>
          <a:stretch/>
        </p:blipFill>
        <p:spPr>
          <a:xfrm>
            <a:off x="228600" y="2075040"/>
            <a:ext cx="8686800" cy="22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C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iew of the sun (a) just prior to coincidence of the vertical crosshair and (b) at coincidenc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3" descr="FG_AppC_007.jpg"/>
          <p:cNvPicPr/>
          <p:nvPr/>
        </p:nvPicPr>
        <p:blipFill>
          <a:blip r:embed="rId1"/>
          <a:stretch/>
        </p:blipFill>
        <p:spPr>
          <a:xfrm>
            <a:off x="457200" y="1498680"/>
            <a:ext cx="82296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C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iew of the sun using a Roelof solar prism (a) just prior to and (b) at the time of the observa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3" descr="FG_AppC_008.jpg"/>
          <p:cNvPicPr/>
          <p:nvPr/>
        </p:nvPicPr>
        <p:blipFill>
          <a:blip r:embed="rId1"/>
          <a:stretch/>
        </p:blipFill>
        <p:spPr>
          <a:xfrm>
            <a:off x="457200" y="1498680"/>
            <a:ext cx="82296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C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zimuth of a line on the ground from the azimuth of a star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3" descr="FG_AppC_002.jpg"/>
          <p:cNvPicPr/>
          <p:nvPr/>
        </p:nvPicPr>
        <p:blipFill>
          <a:blip r:embed="rId1"/>
          <a:stretch/>
        </p:blipFill>
        <p:spPr>
          <a:xfrm>
            <a:off x="1395360" y="971640"/>
            <a:ext cx="63532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776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C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PHEMERIS DATA FROM THE CADASTRAL SURVEY INTERNET SITE AT HTTP://WWW.CADASTRAL.COM/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3" descr="tabappc_01a.jpg"/>
          <p:cNvPicPr/>
          <p:nvPr/>
        </p:nvPicPr>
        <p:blipFill>
          <a:blip r:embed="rId1"/>
          <a:stretch/>
        </p:blipFill>
        <p:spPr>
          <a:xfrm>
            <a:off x="228600" y="826920"/>
            <a:ext cx="868680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776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C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PHEMERIS DATA FROM THE CADASTRAL SURVEY INTERNET SITE AT HTTP://WWW.CADASTRAL.COM/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tabappc_01b.jpg"/>
          <p:cNvPicPr/>
          <p:nvPr/>
        </p:nvPicPr>
        <p:blipFill>
          <a:blip r:embed="rId1"/>
          <a:stretch/>
        </p:blipFill>
        <p:spPr>
          <a:xfrm>
            <a:off x="228600" y="560520"/>
            <a:ext cx="868680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C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elestial spher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3" descr="FG_AppC_003.jpg"/>
          <p:cNvPicPr/>
          <p:nvPr/>
        </p:nvPicPr>
        <p:blipFill>
          <a:blip r:embed="rId1"/>
          <a:stretch/>
        </p:blipFill>
        <p:spPr>
          <a:xfrm>
            <a:off x="1560600" y="971640"/>
            <a:ext cx="6022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C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arison of sidereal and solar tim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3" descr="FG_AppC_004.jpg"/>
          <p:cNvPicPr/>
          <p:nvPr/>
        </p:nvPicPr>
        <p:blipFill>
          <a:blip r:embed="rId1"/>
          <a:stretch/>
        </p:blipFill>
        <p:spPr>
          <a:xfrm>
            <a:off x="1665360" y="971640"/>
            <a:ext cx="58132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0477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C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LONGITUDES OF STANDARD MERIDIANS IN THE UNITED STATES AND TIME DIFFERENCES FROM GREENWICH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3" descr="tabappc_02.jpg"/>
          <p:cNvPicPr/>
          <p:nvPr/>
        </p:nvPicPr>
        <p:blipFill>
          <a:blip r:embed="rId1"/>
          <a:stretch/>
        </p:blipFill>
        <p:spPr>
          <a:xfrm>
            <a:off x="228600" y="584280"/>
            <a:ext cx="86868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C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PZS triangle for Polaris at any hour angl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3" descr="FG_AppC_005.jpg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C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the meridian angle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3" descr="FG_AppC_006.jpg"/>
          <p:cNvPicPr/>
          <p:nvPr/>
        </p:nvPicPr>
        <p:blipFill>
          <a:blip r:embed="rId1"/>
          <a:stretch/>
        </p:blipFill>
        <p:spPr>
          <a:xfrm>
            <a:off x="457200" y="1449360"/>
            <a:ext cx="82296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8:21:33Z</dcterms:created>
  <dc:creator>Scott Anstaett</dc:creator>
  <dc:description/>
  <dc:language>en-US</dc:language>
  <cp:lastModifiedBy>Binod</cp:lastModifiedBy>
  <dcterms:modified xsi:type="dcterms:W3CDTF">2015-06-30T09:33:04Z</dcterms:modified>
  <cp:revision>12</cp:revision>
  <dc:subject/>
  <dc:title>1 Introduction</dc:title>
</cp:coreProperties>
</file>