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334-0BB2-43B7-8DED-875C360F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12F8-3AD4-4D54-BDAC-FE1C91E8E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CCF1-4C2D-42A5-8BD5-950FD6A9B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A35-16E9-4333-89EE-BCEC83985D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295-9619-4C5C-8749-38687DE571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A68-7A99-4127-AC15-EAD0BA5B9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4D59-8004-465B-A29A-0E9B20F21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8FD-3D37-4F92-81DE-401E98EF0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5AF-09AC-4250-B941-53187E8AE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558B-EB1C-45D7-8D94-75895077ED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8195-0DD3-4E0B-91BA-475B871EB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6F5-CAFA-40E1-AB4B-BFC7341F4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F5A-CB34-4AB9-B358-A9F13729D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27A-C4D7-482A-8CF3-B48A9F478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83B-2660-4496-ABB5-D5863985D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A48C-B5BC-484F-8BC3-BF2A46629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F17-739E-46C7-8379-DD690C756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4116-85E4-4427-82AE-2B592B3763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EA8-12EA-49EC-89DB-874313B56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4680" y="6427800"/>
            <a:ext cx="9161280" cy="430200"/>
          </a:xfrm>
          <a:prstGeom prst="rect">
            <a:avLst/>
          </a:prstGeom>
          <a:solidFill>
            <a:srgbClr val="364395"/>
          </a:solidFill>
          <a:ln w="9360">
            <a:solidFill>
              <a:srgbClr val="364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2" descr="Pearson_Bound_White"/>
          <p:cNvPicPr/>
          <p:nvPr/>
        </p:nvPicPr>
        <p:blipFill>
          <a:blip r:embed="rId2"/>
          <a:stretch/>
        </p:blipFill>
        <p:spPr>
          <a:xfrm>
            <a:off x="7738920" y="6426360"/>
            <a:ext cx="1441440" cy="43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Pearson_Strap_Bound_White"/>
          <p:cNvPicPr/>
          <p:nvPr/>
        </p:nvPicPr>
        <p:blipFill>
          <a:blip r:embed="rId3"/>
          <a:stretch/>
        </p:blipFill>
        <p:spPr>
          <a:xfrm>
            <a:off x="0" y="6427800"/>
            <a:ext cx="166068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47"/>
          <p:cNvSpPr/>
          <p:nvPr/>
        </p:nvSpPr>
        <p:spPr>
          <a:xfrm>
            <a:off x="1533600" y="6462720"/>
            <a:ext cx="56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mentary Surveying: An Introduction to Geomatic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, 14e, Global Edi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harles D. Ghilani | Paul R. Wol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267080" y="6450120"/>
            <a:ext cx="365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© 2016 Pearson Education, Lt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asic requirements in determining an angl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" descr="FG_07_001.jpg"/>
          <p:cNvPicPr/>
          <p:nvPr/>
        </p:nvPicPr>
        <p:blipFill>
          <a:blip r:embed="rId1"/>
          <a:stretch/>
        </p:blipFill>
        <p:spPr>
          <a:xfrm>
            <a:off x="2236680" y="971640"/>
            <a:ext cx="4670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4320" y="31237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AZIMUTHS (FROM NORTH) FOR LINES OF FIGURE 7.2(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" descr="tab07_02.jpg"/>
          <p:cNvPicPr/>
          <p:nvPr/>
        </p:nvPicPr>
        <p:blipFill>
          <a:blip r:embed="rId1"/>
          <a:stretch/>
        </p:blipFill>
        <p:spPr>
          <a:xfrm>
            <a:off x="641520" y="228600"/>
            <a:ext cx="7860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Computation of bearing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of Figure 7.2(a). (b) Computation of bearing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of Figure 7.2(a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G_07_008.jpg"/>
          <p:cNvPicPr/>
          <p:nvPr/>
        </p:nvPicPr>
        <p:blipFill>
          <a:blip r:embed="rId1"/>
          <a:stretch/>
        </p:blipFill>
        <p:spPr>
          <a:xfrm>
            <a:off x="1592280" y="971640"/>
            <a:ext cx="5959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66960" y="30477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EARINGS OF LINES IN FIGURE 7.2(a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2" descr="tab07_03.jpg"/>
          <p:cNvPicPr/>
          <p:nvPr/>
        </p:nvPicPr>
        <p:blipFill>
          <a:blip r:embed="rId1"/>
          <a:stretch/>
        </p:blipFill>
        <p:spPr>
          <a:xfrm>
            <a:off x="1828800" y="1189080"/>
            <a:ext cx="5486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(a) Surveyor</a:t>
            </a:r>
            <a:r>
              <a:rPr b="0" lang="ja-JP" sz="1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 compass. (© B. Christopher/Alamy.) (b) Compass box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FG_07_009.jpg"/>
          <p:cNvPicPr/>
          <p:nvPr/>
        </p:nvPicPr>
        <p:blipFill>
          <a:blip r:embed="rId1"/>
          <a:stretch/>
        </p:blipFill>
        <p:spPr>
          <a:xfrm>
            <a:off x="477720" y="971640"/>
            <a:ext cx="8188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10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Isogonic lines from World Magnetic Model for 2005. This image is from the NOAA National Geophysical Data Center, NGDC on the Internet at http://www.ngdc.noaa.gov/geoma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FG_07_010.jpg"/>
          <p:cNvPicPr/>
          <p:nvPr/>
        </p:nvPicPr>
        <p:blipFill>
          <a:blip r:embed="rId1"/>
          <a:stretch/>
        </p:blipFill>
        <p:spPr>
          <a:xfrm>
            <a:off x="457200" y="1120680"/>
            <a:ext cx="82296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1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agnetic declination data entry screen in WOLFPACK setup to compute magnetic field values for Portland, Maine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2" descr="FG_07_011.jpg"/>
          <p:cNvPicPr/>
          <p:nvPr/>
        </p:nvPicPr>
        <p:blipFill>
          <a:blip r:embed="rId1"/>
          <a:stretch/>
        </p:blipFill>
        <p:spPr>
          <a:xfrm>
            <a:off x="457200" y="1525680"/>
            <a:ext cx="82296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320" y="31237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AGNETIC DECLINATION AND ANNUAL CHANGE FOR VARIOUS LOCATIONS IN THE U.S. FOR JANUARY 1, 2013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tab07_04.jpg"/>
          <p:cNvPicPr/>
          <p:nvPr/>
        </p:nvPicPr>
        <p:blipFill>
          <a:blip r:embed="rId1"/>
          <a:stretch/>
        </p:blipFill>
        <p:spPr>
          <a:xfrm>
            <a:off x="228600" y="1270080"/>
            <a:ext cx="86868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1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ing geodetic bearings from magnetic bearings and declination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FG_07_012.jpg"/>
          <p:cNvPicPr/>
          <p:nvPr/>
        </p:nvPicPr>
        <p:blipFill>
          <a:blip r:embed="rId1"/>
          <a:stretch/>
        </p:blipFill>
        <p:spPr>
          <a:xfrm>
            <a:off x="2392200" y="971640"/>
            <a:ext cx="435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1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ing magnetic bearing changes due to declination chang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G_07_013.jpg"/>
          <p:cNvPicPr/>
          <p:nvPr/>
        </p:nvPicPr>
        <p:blipFill>
          <a:blip r:embed="rId1"/>
          <a:stretch/>
        </p:blipFill>
        <p:spPr>
          <a:xfrm>
            <a:off x="2473200" y="971640"/>
            <a:ext cx="4197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losed polygon. (a) Clockwise interior angles (angles to the right). (b) Counterclockwise interior angles (angles to the left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2" descr="FG_07_002.jpg"/>
          <p:cNvPicPr/>
          <p:nvPr/>
        </p:nvPicPr>
        <p:blipFill>
          <a:blip r:embed="rId1"/>
          <a:stretch/>
        </p:blipFill>
        <p:spPr>
          <a:xfrm>
            <a:off x="457200" y="136512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Deflection ang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2" descr="FG_07_003.jpg"/>
          <p:cNvPicPr/>
          <p:nvPr/>
        </p:nvPicPr>
        <p:blipFill>
          <a:blip r:embed="rId1"/>
          <a:stretch/>
        </p:blipFill>
        <p:spPr>
          <a:xfrm>
            <a:off x="2395440" y="971640"/>
            <a:ext cx="43531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Azimuth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2" descr="FG_07_004.jpg"/>
          <p:cNvPicPr/>
          <p:nvPr/>
        </p:nvPicPr>
        <p:blipFill>
          <a:blip r:embed="rId1"/>
          <a:stretch/>
        </p:blipFill>
        <p:spPr>
          <a:xfrm>
            <a:off x="2438280" y="971640"/>
            <a:ext cx="4267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Bearing angle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" descr="FG_07_005.jpg"/>
          <p:cNvPicPr/>
          <p:nvPr/>
        </p:nvPicPr>
        <p:blipFill>
          <a:blip r:embed="rId1"/>
          <a:stretch/>
        </p:blipFill>
        <p:spPr>
          <a:xfrm>
            <a:off x="2138400" y="971640"/>
            <a:ext cx="4867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orward and back bearings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" descr="FG_07_006.jpg"/>
          <p:cNvPicPr/>
          <p:nvPr/>
        </p:nvPicPr>
        <p:blipFill>
          <a:blip r:embed="rId1"/>
          <a:stretch/>
        </p:blipFill>
        <p:spPr>
          <a:xfrm>
            <a:off x="457200" y="2333520"/>
            <a:ext cx="8229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0640" y="31237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.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ARISON OF AZIMUTHS AND BEARING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" descr="tab07_01a.jpg"/>
          <p:cNvPicPr/>
          <p:nvPr/>
        </p:nvPicPr>
        <p:blipFill>
          <a:blip r:embed="rId1"/>
          <a:stretch/>
        </p:blipFill>
        <p:spPr>
          <a:xfrm>
            <a:off x="228600" y="1339920"/>
            <a:ext cx="8686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0640" y="31237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.1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ARISON OF AZIMUTHS AND BEARING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tab07_01b.jpg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Figure 7.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putation of azimuth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of Figure 7.2(a)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3" descr="FG_07_007.jpg"/>
          <p:cNvPicPr/>
          <p:nvPr/>
        </p:nvPicPr>
        <p:blipFill>
          <a:blip r:embed="rId1"/>
          <a:stretch/>
        </p:blipFill>
        <p:spPr>
          <a:xfrm>
            <a:off x="2697120" y="971640"/>
            <a:ext cx="374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29:50Z</dcterms:created>
  <dc:creator>Scott Anstaett</dc:creator>
  <dc:description/>
  <dc:language>en-US</dc:language>
  <cp:lastModifiedBy>Binod</cp:lastModifiedBy>
  <dcterms:modified xsi:type="dcterms:W3CDTF">2015-06-30T09:35:02Z</dcterms:modified>
  <cp:revision>18</cp:revision>
  <dc:subject/>
  <dc:title>1 Introduction</dc:title>
</cp:coreProperties>
</file>