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.wmf" ContentType="image/x-wmf"/>
  <Override PartName="/ppt/media/image2.wmf" ContentType="image/x-wmf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F6F8F-3DD9-4C16-8DD7-C086C53A4D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9C1B2-9D98-4F07-96CF-5B252D92DBB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0A932-4DC4-4B13-86DB-856864C275D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9BA85-3581-42BC-BDD3-8498828DB48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252F9-2681-42C7-B3EB-DB056B16130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06B9E-7EA5-48D7-9359-C90C34C1061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3F5E0-B862-447B-B338-CEF565D72A3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30914-2886-4C56-9FB7-605C25A921A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C2015-5549-4215-8E6B-C23C7AAC4E2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7ED02-2E90-4807-BA3B-2E203A06B06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7A03D-9346-4243-A3C4-AB418697A96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821E6-F6D8-430C-8E08-F39374987AD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E9E56-B2A0-4DD2-932D-80E8DB4FA36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7D759-2C00-4306-BAA3-F59EB33EB19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65DEA-FE4E-435D-AE2C-3A1725BFB3F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C4BA8-8E48-4621-A219-385690C4690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67F6C-02D0-4BD1-8582-8A99CA18DE7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F6F36-78A0-4F88-B646-D333AA34257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38052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Rectangle 6"/>
          <p:cNvSpPr/>
          <p:nvPr/>
        </p:nvSpPr>
        <p:spPr>
          <a:xfrm>
            <a:off x="-4680" y="6427800"/>
            <a:ext cx="9161280" cy="430200"/>
          </a:xfrm>
          <a:prstGeom prst="rect">
            <a:avLst/>
          </a:prstGeom>
          <a:solidFill>
            <a:srgbClr val="364395"/>
          </a:solidFill>
          <a:ln w="9360">
            <a:solidFill>
              <a:srgbClr val="3643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Picture 12" descr="Pearson_Bound_White"/>
          <p:cNvPicPr/>
          <p:nvPr/>
        </p:nvPicPr>
        <p:blipFill>
          <a:blip r:embed="rId2"/>
          <a:stretch/>
        </p:blipFill>
        <p:spPr>
          <a:xfrm>
            <a:off x="7738920" y="6426360"/>
            <a:ext cx="1441440" cy="4302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3" descr="Pearson_Strap_Bound_White"/>
          <p:cNvPicPr/>
          <p:nvPr/>
        </p:nvPicPr>
        <p:blipFill>
          <a:blip r:embed="rId3"/>
          <a:stretch/>
        </p:blipFill>
        <p:spPr>
          <a:xfrm>
            <a:off x="0" y="6427800"/>
            <a:ext cx="1660680" cy="430200"/>
          </a:xfrm>
          <a:prstGeom prst="rect">
            <a:avLst/>
          </a:prstGeom>
          <a:ln w="0">
            <a:noFill/>
          </a:ln>
        </p:spPr>
      </p:pic>
      <p:sp>
        <p:nvSpPr>
          <p:cNvPr id="4" name="Text Box 47"/>
          <p:cNvSpPr/>
          <p:nvPr/>
        </p:nvSpPr>
        <p:spPr>
          <a:xfrm>
            <a:off x="1533600" y="6462720"/>
            <a:ext cx="562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ffffff"/>
                </a:solidFill>
                <a:latin typeface="Verdana"/>
              </a:rPr>
              <a:t>Elementary Surveying: An Introduction to Geomatics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, 14e, Global Edition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harles D. Ghilani | Paul R. Wolf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4267080" y="6450120"/>
            <a:ext cx="365760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© 2016 Pearson Education, Ltd.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Figure 13.1a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  The Trimble R10. (Courtesy of Trimble Navigation)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0" name="Picture 2" descr="FG_13_001a.jpg"/>
          <p:cNvPicPr/>
          <p:nvPr/>
        </p:nvPicPr>
        <p:blipFill>
          <a:blip r:embed="rId1"/>
          <a:stretch/>
        </p:blipFill>
        <p:spPr>
          <a:xfrm>
            <a:off x="2973240" y="971640"/>
            <a:ext cx="319752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Figure 13.8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  (a) The intersection of two spheres and (b) the intersection of two circles.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8" name="Picture 2" descr="FG_13_008.jpg"/>
          <p:cNvPicPr/>
          <p:nvPr/>
        </p:nvPicPr>
        <p:blipFill>
          <a:blip r:embed="rId1"/>
          <a:stretch/>
        </p:blipFill>
        <p:spPr>
          <a:xfrm>
            <a:off x="457200" y="2101680"/>
            <a:ext cx="8229600" cy="295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Figure 13.9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  Relative positions of satellites, ionosphere, and receiver.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0" name="Picture 2" descr="FG_13_009.jpg"/>
          <p:cNvPicPr/>
          <p:nvPr/>
        </p:nvPicPr>
        <p:blipFill>
          <a:blip r:embed="rId1"/>
          <a:stretch/>
        </p:blipFill>
        <p:spPr>
          <a:xfrm>
            <a:off x="1371600" y="971640"/>
            <a:ext cx="640080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Figure 13.10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  (a) Multipathing and (b) Slant height measurements.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2" name="Picture 2" descr="FG_13_010.jpg"/>
          <p:cNvPicPr/>
          <p:nvPr/>
        </p:nvPicPr>
        <p:blipFill>
          <a:blip r:embed="rId1"/>
          <a:stretch/>
        </p:blipFill>
        <p:spPr>
          <a:xfrm>
            <a:off x="457200" y="1123920"/>
            <a:ext cx="8229600" cy="491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Figure 13.11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  Weak and strong satellite geometry.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4" name="Picture 2" descr="FG_13_011.jpg"/>
          <p:cNvPicPr/>
          <p:nvPr/>
        </p:nvPicPr>
        <p:blipFill>
          <a:blip r:embed="rId1"/>
          <a:stretch/>
        </p:blipFill>
        <p:spPr>
          <a:xfrm>
            <a:off x="457200" y="1162080"/>
            <a:ext cx="8229600" cy="483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038320" y="3047760"/>
            <a:ext cx="50673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Table 13.2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  ERROR SOURCES AND SIZES THAT CAN BE EXPECTED IN OBSERVED GPS RANGES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6" name="Picture 2" descr="tab13_02.jpg"/>
          <p:cNvPicPr/>
          <p:nvPr/>
        </p:nvPicPr>
        <p:blipFill>
          <a:blip r:embed="rId1"/>
          <a:stretch/>
        </p:blipFill>
        <p:spPr>
          <a:xfrm>
            <a:off x="228600" y="1409760"/>
            <a:ext cx="868680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33720" y="3123720"/>
            <a:ext cx="48765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Table 13.3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  IMPORTANT CATEGORIES OF DILUTION OF PRECISION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8" name="Picture 2" descr="tab13_03.jpg"/>
          <p:cNvPicPr/>
          <p:nvPr/>
        </p:nvPicPr>
        <p:blipFill>
          <a:blip r:embed="rId1"/>
          <a:stretch/>
        </p:blipFill>
        <p:spPr>
          <a:xfrm>
            <a:off x="228600" y="1327320"/>
            <a:ext cx="8686800" cy="37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Figure 13.12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  Computed baseline vector components.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0" name="Picture 2" descr="FG_13_012.jpg"/>
          <p:cNvPicPr/>
          <p:nvPr/>
        </p:nvPicPr>
        <p:blipFill>
          <a:blip r:embed="rId1"/>
          <a:stretch/>
        </p:blipFill>
        <p:spPr>
          <a:xfrm>
            <a:off x="1346040" y="971640"/>
            <a:ext cx="645192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Figure 13.13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  GPS differencing techniques. (a) Single differencing. (b) Double differencing. (c) Triple differencing.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2" name="Picture 2" descr="FG_13_013.jpg"/>
          <p:cNvPicPr/>
          <p:nvPr/>
        </p:nvPicPr>
        <p:blipFill>
          <a:blip r:embed="rId1"/>
          <a:stretch/>
        </p:blipFill>
        <p:spPr>
          <a:xfrm>
            <a:off x="457200" y="2262240"/>
            <a:ext cx="822960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Figure 13.14   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The GR-5 receiver is capable of combining GPS and GLONASS signals into a combined solution. (Courtesy Topcon Positioning Systems.)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4" name="Picture 4" descr="FG_13_014.jpg"/>
          <p:cNvPicPr/>
          <p:nvPr/>
        </p:nvPicPr>
        <p:blipFill>
          <a:blip r:embed="rId1"/>
          <a:stretch/>
        </p:blipFill>
        <p:spPr>
          <a:xfrm>
            <a:off x="2895480" y="1028880"/>
            <a:ext cx="335304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Figure 13.1b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  The Sokkia GRX2 GNSS receivers. (Courtesy of Topcon-Sokkia.)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2" name="Picture 2" descr="FG_13_001b.jpg"/>
          <p:cNvPicPr/>
          <p:nvPr/>
        </p:nvPicPr>
        <p:blipFill>
          <a:blip r:embed="rId1"/>
          <a:stretch/>
        </p:blipFill>
        <p:spPr>
          <a:xfrm>
            <a:off x="2976480" y="971640"/>
            <a:ext cx="319104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Figure 13.2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  (a) A GPS satellite, and (b) the GPS constellation.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4" name="Picture 2" descr="FG_13_002.jpg"/>
          <p:cNvPicPr/>
          <p:nvPr/>
        </p:nvPicPr>
        <p:blipFill>
          <a:blip r:embed="rId1"/>
          <a:stretch/>
        </p:blipFill>
        <p:spPr>
          <a:xfrm>
            <a:off x="457200" y="1298520"/>
            <a:ext cx="8229600" cy="456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38280" y="3047760"/>
            <a:ext cx="42674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Table 13.1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  FREQUENCIES TRANSMITTED BY GPS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6" name="Picture 2" descr="tab13_01.jpg"/>
          <p:cNvPicPr/>
          <p:nvPr/>
        </p:nvPicPr>
        <p:blipFill>
          <a:blip r:embed="rId1"/>
          <a:stretch/>
        </p:blipFill>
        <p:spPr>
          <a:xfrm>
            <a:off x="228600" y="1374840"/>
            <a:ext cx="8686800" cy="36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Figure 13.3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  Determination of signal travel time by code matching.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8" name="Picture 2" descr="FG_13_003.jpg"/>
          <p:cNvPicPr/>
          <p:nvPr/>
        </p:nvPicPr>
        <p:blipFill>
          <a:blip r:embed="rId1"/>
          <a:stretch/>
        </p:blipFill>
        <p:spPr>
          <a:xfrm>
            <a:off x="457200" y="2816280"/>
            <a:ext cx="8229600" cy="153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Figure 13.4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  Satellite reference coordinate system.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0" name="Picture 2" descr="FG_13_004.jpg"/>
          <p:cNvPicPr/>
          <p:nvPr/>
        </p:nvPicPr>
        <p:blipFill>
          <a:blip r:embed="rId1"/>
          <a:stretch/>
        </p:blipFill>
        <p:spPr>
          <a:xfrm>
            <a:off x="457200" y="1090440"/>
            <a:ext cx="8229600" cy="49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Figure 13.5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  Parameters involved in transforming from the satellite reference coordinate system to the geocentric coordinate system.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2" name="Picture 2" descr="FG_13_005.jpg"/>
          <p:cNvPicPr/>
          <p:nvPr/>
        </p:nvPicPr>
        <p:blipFill>
          <a:blip r:embed="rId1"/>
          <a:stretch/>
        </p:blipFill>
        <p:spPr>
          <a:xfrm>
            <a:off x="1706400" y="1028880"/>
            <a:ext cx="573120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Figure 13.6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  The geodetic and geocentric coordinate systems.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4" name="Picture 2" descr="FG_13_006.jpg"/>
          <p:cNvPicPr/>
          <p:nvPr/>
        </p:nvPicPr>
        <p:blipFill>
          <a:blip r:embed="rId1"/>
          <a:stretch/>
        </p:blipFill>
        <p:spPr>
          <a:xfrm>
            <a:off x="1706400" y="971640"/>
            <a:ext cx="573120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Figure 13.7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  Relationships between elevation </a:t>
            </a:r>
            <a:r>
              <a:rPr b="0" i="1" lang="en-US" sz="1100" spc="-1" strike="noStrike">
                <a:solidFill>
                  <a:srgbClr val="000000"/>
                </a:solidFill>
                <a:latin typeface="Verdana"/>
              </a:rPr>
              <a:t>H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, geodetic height </a:t>
            </a:r>
            <a:r>
              <a:rPr b="0" i="1" lang="en-US" sz="1100" spc="-1" strike="noStrike">
                <a:solidFill>
                  <a:srgbClr val="000000"/>
                </a:solidFill>
                <a:latin typeface="Verdana"/>
              </a:rPr>
              <a:t>h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, and geoid undulation </a:t>
            </a:r>
            <a:r>
              <a:rPr b="0" i="1" lang="en-US" sz="11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6" name="Picture 2" descr="FG_13_007.jpg"/>
          <p:cNvPicPr/>
          <p:nvPr/>
        </p:nvPicPr>
        <p:blipFill>
          <a:blip r:embed="rId1"/>
          <a:stretch/>
        </p:blipFill>
        <p:spPr>
          <a:xfrm>
            <a:off x="457200" y="1562040"/>
            <a:ext cx="822960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1T13:54:30Z</dcterms:created>
  <dc:creator>Scott Anstaett</dc:creator>
  <dc:description/>
  <dc:language>en-US</dc:language>
  <cp:lastModifiedBy>Binod</cp:lastModifiedBy>
  <dcterms:modified xsi:type="dcterms:W3CDTF">2015-06-30T09:36:27Z</dcterms:modified>
  <cp:revision>16</cp:revision>
  <dc:subject/>
  <dc:title>1 Introduction</dc:title>
</cp:coreProperties>
</file>