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C494-3BDE-4AA1-B8E9-75BC3705A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3DA1-4DF0-4111-96E9-8643863624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F876-5024-4C97-A0C6-D1C9E5EE70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7D30-8B94-4DFB-B91A-CDBCCC389C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4406-B38B-4DEA-B0AA-9C5ABE0086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AB5B-FDDA-41F4-BC69-2DE81DFF6F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0FE5-D205-4DF3-A3A4-327D1C09C2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76EA-C8F0-4C0A-BA56-E805BC44C9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84AB-C28F-4D12-80B5-DC9D165F0E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FA6C-8D18-4A5F-91A8-631B49CDE1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4427-099B-4936-BFBC-98E71F0B41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1859-C432-4827-935C-40F9EE4718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C436-4318-4616-8ECA-69B33CCD76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2C34-16BB-438B-9B2F-09F9D69809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C881-5069-42D8-9AB9-EB7945B251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6532-AAB1-4CE0-9DDE-8AA64943E1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8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ncept of layers in a geographic information system. Map layers shown are (A) parcels; (B) zoning; (C) floodplains; (D) wetlands; (E) land cover; (F) soils; (G) reference framework; and (H) composite overlay. (Courtesy Land Information and Computer Graphics facility, College of Agricultural and Life Sciences, University of Wisconsin-Madison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FG_28_001.jpg"/>
          <p:cNvPicPr/>
          <p:nvPr/>
        </p:nvPicPr>
        <p:blipFill>
          <a:blip r:embed="rId1"/>
          <a:stretch/>
        </p:blipFill>
        <p:spPr>
          <a:xfrm>
            <a:off x="2476440" y="1104840"/>
            <a:ext cx="41911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8.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ablet digitizer interfaced with personal computer. (© Jeff Greenberg/Alamy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" descr="FG_28_008.jpg"/>
          <p:cNvPicPr/>
          <p:nvPr/>
        </p:nvPicPr>
        <p:blipFill>
          <a:blip r:embed="rId1"/>
          <a:stretch/>
        </p:blipFill>
        <p:spPr>
          <a:xfrm>
            <a:off x="2606760" y="971640"/>
            <a:ext cx="39304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8.9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Large-format scanner. (Courtesy Office of Surface Mining, Reclamation and Enforcement, National Mine Map Repository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FG_28_009.jpg"/>
          <p:cNvPicPr/>
          <p:nvPr/>
        </p:nvPicPr>
        <p:blipFill>
          <a:blip r:embed="rId1"/>
          <a:stretch/>
        </p:blipFill>
        <p:spPr>
          <a:xfrm>
            <a:off x="1459080" y="971640"/>
            <a:ext cx="62258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8.10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GIS spatial analysis functions. (a) Point buffering. (b) Line buffering. (c) Polygon buffering. (d) Adjacenty analysi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2" descr="FG_28_010.jpg"/>
          <p:cNvPicPr/>
          <p:nvPr/>
        </p:nvPicPr>
        <p:blipFill>
          <a:blip r:embed="rId1"/>
          <a:stretch/>
        </p:blipFill>
        <p:spPr>
          <a:xfrm>
            <a:off x="2216160" y="971640"/>
            <a:ext cx="47116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8.1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xample of GIS overlay function used to evaluate land suitability. (a) Polygons of differing slopes. (b) Varying soil types in the area. (c) Overlay of (a) and (b), identifying polygon I as an area combining lower slopes with stable soils that would be suitable for development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2" descr="FG_28_011.jpg"/>
          <p:cNvPicPr/>
          <p:nvPr/>
        </p:nvPicPr>
        <p:blipFill>
          <a:blip r:embed="rId1"/>
          <a:stretch/>
        </p:blipFill>
        <p:spPr>
          <a:xfrm>
            <a:off x="457200" y="2077920"/>
            <a:ext cx="82296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blem 28.1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2" descr="PRO_28_013.jpg"/>
          <p:cNvPicPr/>
          <p:nvPr/>
        </p:nvPicPr>
        <p:blipFill>
          <a:blip r:embed="rId1"/>
          <a:stretch/>
        </p:blipFill>
        <p:spPr>
          <a:xfrm>
            <a:off x="457200" y="1452600"/>
            <a:ext cx="82296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blem 28.15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Picture 2" descr="PRO_28_015.jpg"/>
          <p:cNvPicPr/>
          <p:nvPr/>
        </p:nvPicPr>
        <p:blipFill>
          <a:blip r:embed="rId1"/>
          <a:stretch/>
        </p:blipFill>
        <p:spPr>
          <a:xfrm>
            <a:off x="457200" y="1465200"/>
            <a:ext cx="82296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8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imple spatial objects used to represent data digitally in a GI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FG_28_002.jpg"/>
          <p:cNvPicPr/>
          <p:nvPr/>
        </p:nvPicPr>
        <p:blipFill>
          <a:blip r:embed="rId1"/>
          <a:stretch/>
        </p:blipFill>
        <p:spPr>
          <a:xfrm>
            <a:off x="457200" y="1960560"/>
            <a:ext cx="8229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8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Vector representation of a simple graphic record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FG_28_003.jpg"/>
          <p:cNvPicPr/>
          <p:nvPr/>
        </p:nvPicPr>
        <p:blipFill>
          <a:blip r:embed="rId1"/>
          <a:stretch/>
        </p:blipFill>
        <p:spPr>
          <a:xfrm>
            <a:off x="1779480" y="971640"/>
            <a:ext cx="55850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71520" y="304776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28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VECTOR REPRESENTATION OF FIGURE 28.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tab28_01.jpg"/>
          <p:cNvPicPr/>
          <p:nvPr/>
        </p:nvPicPr>
        <p:blipFill>
          <a:blip r:embed="rId1"/>
          <a:stretch/>
        </p:blipFill>
        <p:spPr>
          <a:xfrm>
            <a:off x="228600" y="1104840"/>
            <a:ext cx="8686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8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Land cover maps of a region. (a) The region using standard topographic symbols. (b) Vector representation of the same region. (c) Raster representation of the region using a coarse-resolution grid cell. (d) Raster representation using a finer-resolution grid cell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FG_28_004.jpg"/>
          <p:cNvPicPr/>
          <p:nvPr/>
        </p:nvPicPr>
        <p:blipFill>
          <a:blip r:embed="rId1"/>
          <a:stretch/>
        </p:blipFill>
        <p:spPr>
          <a:xfrm>
            <a:off x="2278080" y="1104840"/>
            <a:ext cx="45878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312372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28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OPOLOGICAL RELATIONSHIPS OF ELEMENTS IN THE GRAPHIC RECORD OF FIGURE 28.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tab28_02.jpg"/>
          <p:cNvPicPr/>
          <p:nvPr/>
        </p:nvPicPr>
        <p:blipFill>
          <a:blip r:embed="rId1"/>
          <a:stretch/>
        </p:blipFill>
        <p:spPr>
          <a:xfrm>
            <a:off x="228600" y="1425600"/>
            <a:ext cx="86868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8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Vector data overlaid on a raster image background. [Courtesy Pennsylvania Department of Transportation (PennDOT).]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FG_28_005.jpg"/>
          <p:cNvPicPr/>
          <p:nvPr/>
        </p:nvPicPr>
        <p:blipFill>
          <a:blip r:embed="rId1"/>
          <a:stretch/>
        </p:blipFill>
        <p:spPr>
          <a:xfrm>
            <a:off x="457200" y="1154160"/>
            <a:ext cx="82296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8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Methods for converting data from vector to raster format. (a) Vector representation of Figure 28.4(b) overlaid on a coarse raster format. (b), (c), and (d) vector-to-raster conversion by predominant type, precedence, and center-point method, respectively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FG_28_006.jpg"/>
          <p:cNvPicPr/>
          <p:nvPr/>
        </p:nvPicPr>
        <p:blipFill>
          <a:blip r:embed="rId1"/>
          <a:stretch/>
        </p:blipFill>
        <p:spPr>
          <a:xfrm>
            <a:off x="457200" y="1071720"/>
            <a:ext cx="82296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8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nversion of data from raster-to-vector format. (a) Cells that identify the stream line of Figure 28.4(a). (b) Cell centers. (c) Vector representation of stream line recreated by connecting adjacent cell center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" descr="FG_28_007.jpg"/>
          <p:cNvPicPr/>
          <p:nvPr/>
        </p:nvPicPr>
        <p:blipFill>
          <a:blip r:embed="rId1"/>
          <a:stretch/>
        </p:blipFill>
        <p:spPr>
          <a:xfrm>
            <a:off x="457200" y="2027160"/>
            <a:ext cx="82296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7:58:03Z</dcterms:created>
  <dc:creator>Scott Anstaett</dc:creator>
  <dc:description/>
  <dc:language>en-US</dc:language>
  <cp:lastModifiedBy>Binod</cp:lastModifiedBy>
  <dcterms:modified xsi:type="dcterms:W3CDTF">2015-06-30T09:40:48Z</dcterms:modified>
  <cp:revision>16</cp:revision>
  <dc:subject/>
  <dc:title>1 Introduction</dc:title>
</cp:coreProperties>
</file>