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1DC8-30E0-4B41-A9BC-1A068CC92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D431-A18A-4FFF-A2A9-58B4AC87EB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C5B7-AE86-445A-884C-40096782F1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DF26-052C-47A4-A4D2-97A937056C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EE6B-3DA2-471D-8BDF-C4CF44BD04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101C-E317-4670-8B42-549D4D45F8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00B5-52A4-4ECA-9562-92E9E9D6EB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-4680" y="6427800"/>
            <a:ext cx="9161280" cy="430200"/>
          </a:xfrm>
          <a:prstGeom prst="rect">
            <a:avLst/>
          </a:prstGeom>
          <a:solidFill>
            <a:srgbClr val="364395"/>
          </a:solidFill>
          <a:ln w="9360">
            <a:solidFill>
              <a:srgbClr val="364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12" descr="Pearson_Bound_White"/>
          <p:cNvPicPr/>
          <p:nvPr/>
        </p:nvPicPr>
        <p:blipFill>
          <a:blip r:embed="rId2"/>
          <a:stretch/>
        </p:blipFill>
        <p:spPr>
          <a:xfrm>
            <a:off x="7738920" y="6426360"/>
            <a:ext cx="1441440" cy="430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3" descr="Pearson_Strap_Bound_White"/>
          <p:cNvPicPr/>
          <p:nvPr/>
        </p:nvPicPr>
        <p:blipFill>
          <a:blip r:embed="rId3"/>
          <a:stretch/>
        </p:blipFill>
        <p:spPr>
          <a:xfrm>
            <a:off x="0" y="6427800"/>
            <a:ext cx="1660680" cy="430200"/>
          </a:xfrm>
          <a:prstGeom prst="rect">
            <a:avLst/>
          </a:prstGeom>
          <a:ln w="0">
            <a:noFill/>
          </a:ln>
        </p:spPr>
      </p:pic>
      <p:sp>
        <p:nvSpPr>
          <p:cNvPr id="4" name="Text Box 47"/>
          <p:cNvSpPr/>
          <p:nvPr/>
        </p:nvSpPr>
        <p:spPr>
          <a:xfrm>
            <a:off x="1533600" y="6462720"/>
            <a:ext cx="56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mentary Surveying: An Introduction to Geomatics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14e, Global Edi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harles D. Ghilani | Paul R. Wolf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267080" y="6450120"/>
            <a:ext cx="3657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© 2016 Pearson Education, Ltd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Plate B.1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Picture 3" descr="Plate_AppB_001.jpg"/>
          <p:cNvPicPr/>
          <p:nvPr/>
        </p:nvPicPr>
        <p:blipFill>
          <a:blip r:embed="rId1"/>
          <a:stretch/>
        </p:blipFill>
        <p:spPr>
          <a:xfrm>
            <a:off x="1282680" y="971640"/>
            <a:ext cx="65786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Plate B.2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" name="Picture 3" descr="Plate_AppB_002.jpg"/>
          <p:cNvPicPr/>
          <p:nvPr/>
        </p:nvPicPr>
        <p:blipFill>
          <a:blip r:embed="rId1"/>
          <a:stretch/>
        </p:blipFill>
        <p:spPr>
          <a:xfrm>
            <a:off x="1285920" y="971640"/>
            <a:ext cx="657216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Plate B.3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Picture 3" descr="Plate_AppB_003.jpg"/>
          <p:cNvPicPr/>
          <p:nvPr/>
        </p:nvPicPr>
        <p:blipFill>
          <a:blip r:embed="rId1"/>
          <a:stretch/>
        </p:blipFill>
        <p:spPr>
          <a:xfrm>
            <a:off x="1279440" y="971640"/>
            <a:ext cx="65851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Plate B.4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" name="Picture 3" descr="Plate_AppB_004.jpg"/>
          <p:cNvPicPr/>
          <p:nvPr/>
        </p:nvPicPr>
        <p:blipFill>
          <a:blip r:embed="rId1"/>
          <a:stretch/>
        </p:blipFill>
        <p:spPr>
          <a:xfrm>
            <a:off x="1285920" y="971640"/>
            <a:ext cx="657216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Plate B.5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3" descr="Plate_AppB_005.jpg"/>
          <p:cNvPicPr/>
          <p:nvPr/>
        </p:nvPicPr>
        <p:blipFill>
          <a:blip r:embed="rId1"/>
          <a:stretch/>
        </p:blipFill>
        <p:spPr>
          <a:xfrm>
            <a:off x="1282680" y="971640"/>
            <a:ext cx="65786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Plate B.6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Picture 3" descr="Plate_AppB_006.jpg"/>
          <p:cNvPicPr/>
          <p:nvPr/>
        </p:nvPicPr>
        <p:blipFill>
          <a:blip r:embed="rId1"/>
          <a:stretch/>
        </p:blipFill>
        <p:spPr>
          <a:xfrm>
            <a:off x="1295280" y="971640"/>
            <a:ext cx="65534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16:45:19Z</dcterms:created>
  <dc:creator>Scott Anstaett</dc:creator>
  <dc:description/>
  <dc:language>en-US</dc:language>
  <cp:lastModifiedBy>Binod</cp:lastModifiedBy>
  <dcterms:modified xsi:type="dcterms:W3CDTF">2015-06-30T09:32:38Z</dcterms:modified>
  <cp:revision>12</cp:revision>
  <dc:subject/>
  <dc:title>1 Introduction</dc:title>
</cp:coreProperties>
</file>