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C7F-42BD-4A53-A82D-53F4A60D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499D-B254-4CAE-8569-E95E9B889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FA1-C6AE-431A-9E2E-4EDA13A10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838-ED59-48A9-BFA3-5CCE56A53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5B52-85FE-4ACF-8106-F80F914153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803-7EE6-43FA-9470-1BB4E2691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33DF-54FC-4F0F-A173-BE9252E99A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A36-1554-4CB9-B4CB-84A9EA31B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D42-EF33-488A-BCC7-DC4BA51A8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0CDB-A126-4833-8275-36DFB6D837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32F-22CE-41A5-892C-B3F9F7D0B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s of precision and accuracy. (a) Results are precise but not accurate. (b) Results are neither precise nor accurate. (c) Results are both precise and accurat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03_001.jpg"/>
          <p:cNvPicPr/>
          <p:nvPr/>
        </p:nvPicPr>
        <p:blipFill>
          <a:blip r:embed="rId1"/>
          <a:stretch/>
        </p:blipFill>
        <p:spPr>
          <a:xfrm>
            <a:off x="457200" y="2197080"/>
            <a:ext cx="82296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rror of are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03_006.jpg"/>
          <p:cNvPicPr/>
          <p:nvPr/>
        </p:nvPicPr>
        <p:blipFill>
          <a:blip r:embed="rId1"/>
          <a:stretch/>
        </p:blipFill>
        <p:spPr>
          <a:xfrm>
            <a:off x="457200" y="979560"/>
            <a:ext cx="82296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3085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NGLE OBSERVATIONS FROM PRECISE TOTAL STATION INSTRUM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tab03_01a.jpg"/>
          <p:cNvPicPr/>
          <p:nvPr/>
        </p:nvPicPr>
        <p:blipFill>
          <a:blip r:embed="rId1"/>
          <a:stretch/>
        </p:blipFill>
        <p:spPr>
          <a:xfrm>
            <a:off x="1544760" y="870120"/>
            <a:ext cx="605448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4320" y="3085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.1 (continued)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NGLE OBSERVATIONS FROM PRECISE TOTAL STATION INSTRUME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tab03_01b.jpg"/>
          <p:cNvPicPr/>
          <p:nvPr/>
        </p:nvPicPr>
        <p:blipFill>
          <a:blip r:embed="rId1"/>
          <a:stretch/>
        </p:blipFill>
        <p:spPr>
          <a:xfrm>
            <a:off x="1544760" y="228600"/>
            <a:ext cx="6054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istogram, frequency polygon, and normal distribution curve of residuals from angle measurements made with total st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03_002.jpg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31237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ANGES OF CLASS INTERVALS AND NUMBER OF RESIDUALS IN EACH INTERVA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tab03_02a.jpg"/>
          <p:cNvPicPr/>
          <p:nvPr/>
        </p:nvPicPr>
        <p:blipFill>
          <a:blip r:embed="rId1"/>
          <a:stretch/>
        </p:blipFill>
        <p:spPr>
          <a:xfrm>
            <a:off x="663480" y="235080"/>
            <a:ext cx="78170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31237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.2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ANGES OF CLASS INTERVALS AND NUMBER OF RESIDUALS IN EACH INTERVA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tab03_02b.jpg"/>
          <p:cNvPicPr/>
          <p:nvPr/>
        </p:nvPicPr>
        <p:blipFill>
          <a:blip r:embed="rId1"/>
          <a:stretch/>
        </p:blipFill>
        <p:spPr>
          <a:xfrm>
            <a:off x="662040" y="228600"/>
            <a:ext cx="7819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ormal distribution curv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03_003.jpg"/>
          <p:cNvPicPr/>
          <p:nvPr/>
        </p:nvPicPr>
        <p:blipFill>
          <a:blip r:embed="rId1"/>
          <a:stretch/>
        </p:blipFill>
        <p:spPr>
          <a:xfrm>
            <a:off x="873000" y="971640"/>
            <a:ext cx="7398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ormal distribution curves for (a) increased precision, and (b) decreased precis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03_004.jpg"/>
          <p:cNvPicPr/>
          <p:nvPr/>
        </p:nvPicPr>
        <p:blipFill>
          <a:blip r:embed="rId1"/>
          <a:stretch/>
        </p:blipFill>
        <p:spPr>
          <a:xfrm>
            <a:off x="2297160" y="971640"/>
            <a:ext cx="4549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3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lation between error and percentage of area under normal distribution curv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03_005.jpg"/>
          <p:cNvPicPr/>
          <p:nvPr/>
        </p:nvPicPr>
        <p:blipFill>
          <a:blip r:embed="rId1"/>
          <a:stretch/>
        </p:blipFill>
        <p:spPr>
          <a:xfrm>
            <a:off x="2716200" y="971640"/>
            <a:ext cx="3711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7:13:29Z</dcterms:created>
  <dc:creator>Scott Anstaett</dc:creator>
  <dc:description/>
  <dc:language>en-US</dc:language>
  <cp:lastModifiedBy>Binod</cp:lastModifiedBy>
  <dcterms:modified xsi:type="dcterms:W3CDTF">2015-06-30T09:34:04Z</dcterms:modified>
  <cp:revision>18</cp:revision>
  <dc:subject/>
  <dc:title>1 Introduction</dc:title>
</cp:coreProperties>
</file>