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69E8B-4202-49AD-849D-347522009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9E119-2233-463B-9A55-A2932A3189E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6D0B7-77D7-4229-8278-9CAD130A15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92FF5-3022-4197-82ED-CEF177C7AB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2C882-5CD5-4EA7-8490-308235B024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BF326-6B77-4DDE-85AE-40162763CB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F79E7-11E6-4D50-A09F-BC2415B1E4C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-4680" y="6427800"/>
            <a:ext cx="9161280" cy="430200"/>
          </a:xfrm>
          <a:prstGeom prst="rect">
            <a:avLst/>
          </a:prstGeom>
          <a:solidFill>
            <a:srgbClr val="364395"/>
          </a:solidFill>
          <a:ln w="9360">
            <a:solidFill>
              <a:srgbClr val="364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Picture 12" descr="Pearson_Bound_White"/>
          <p:cNvPicPr/>
          <p:nvPr/>
        </p:nvPicPr>
        <p:blipFill>
          <a:blip r:embed="rId2"/>
          <a:stretch/>
        </p:blipFill>
        <p:spPr>
          <a:xfrm>
            <a:off x="7738920" y="6426360"/>
            <a:ext cx="1441440" cy="4302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3" descr="Pearson_Strap_Bound_White"/>
          <p:cNvPicPr/>
          <p:nvPr/>
        </p:nvPicPr>
        <p:blipFill>
          <a:blip r:embed="rId3"/>
          <a:stretch/>
        </p:blipFill>
        <p:spPr>
          <a:xfrm>
            <a:off x="0" y="6427800"/>
            <a:ext cx="1660680" cy="430200"/>
          </a:xfrm>
          <a:prstGeom prst="rect">
            <a:avLst/>
          </a:prstGeom>
          <a:ln w="0">
            <a:noFill/>
          </a:ln>
        </p:spPr>
      </p:pic>
      <p:sp>
        <p:nvSpPr>
          <p:cNvPr id="4" name="Text Box 47"/>
          <p:cNvSpPr/>
          <p:nvPr/>
        </p:nvSpPr>
        <p:spPr>
          <a:xfrm>
            <a:off x="1533600" y="6462720"/>
            <a:ext cx="56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mentary Surveying: An Introduction to Geomatics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, 14e, Global Edi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harles D. Ghilani | Paul R. Wolf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4267080" y="6450120"/>
            <a:ext cx="3657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© 2016 Pearson Education, Ltd.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D.1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Opening support files in Mathcad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" name="Picture 3" descr="FG_AppD_001.jpg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D.2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Worksheets demonstrating map projection computations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" name="Picture 3" descr="FG_AppD_002.jpg"/>
          <p:cNvPicPr/>
          <p:nvPr/>
        </p:nvPicPr>
        <p:blipFill>
          <a:blip r:embed="rId1"/>
          <a:stretch/>
        </p:blipFill>
        <p:spPr>
          <a:xfrm>
            <a:off x="1698480" y="971640"/>
            <a:ext cx="574704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D.3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Statistical computations for data from Table 3.1 of this book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" name="Picture 3" descr="FG_AppD_003.jpg"/>
          <p:cNvPicPr/>
          <p:nvPr/>
        </p:nvPicPr>
        <p:blipFill>
          <a:blip r:embed="rId1"/>
          <a:stretch/>
        </p:blipFill>
        <p:spPr>
          <a:xfrm>
            <a:off x="1838160" y="971640"/>
            <a:ext cx="546768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D.4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Data entry pop-up menu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" name="Picture 3" descr="FG_AppD_004.jpg"/>
          <p:cNvPicPr/>
          <p:nvPr/>
        </p:nvPicPr>
        <p:blipFill>
          <a:blip r:embed="rId1"/>
          <a:stretch/>
        </p:blipFill>
        <p:spPr>
          <a:xfrm>
            <a:off x="2347920" y="971640"/>
            <a:ext cx="444816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D.5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Component Properties box displaying the file name in the middle of the box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" name="Picture 3" descr="FG_AppD_005.jpg"/>
          <p:cNvPicPr/>
          <p:nvPr/>
        </p:nvPicPr>
        <p:blipFill>
          <a:blip r:embed="rId1"/>
          <a:stretch/>
        </p:blipFill>
        <p:spPr>
          <a:xfrm>
            <a:off x="1965240" y="971640"/>
            <a:ext cx="521352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D.6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Tape corrections for last taped distance in Example 6.1 of book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" name="Picture 3" descr="FG_AppD_006.jpg"/>
          <p:cNvPicPr/>
          <p:nvPr/>
        </p:nvPicPr>
        <p:blipFill>
          <a:blip r:embed="rId1"/>
          <a:stretch/>
        </p:blipFill>
        <p:spPr>
          <a:xfrm>
            <a:off x="2435400" y="971640"/>
            <a:ext cx="42732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16:45:19Z</dcterms:created>
  <dc:creator>Scott Anstaett</dc:creator>
  <dc:description/>
  <dc:language>en-US</dc:language>
  <cp:lastModifiedBy>Binod</cp:lastModifiedBy>
  <dcterms:modified xsi:type="dcterms:W3CDTF">2015-06-30T09:33:17Z</dcterms:modified>
  <cp:revision>12</cp:revision>
  <dc:subject/>
  <dc:title>1 Introduction</dc:title>
</cp:coreProperties>
</file>