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0AF7-B572-4977-A41F-3CCCEEA80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6978-BF57-4539-A914-C6CAC49EEE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6BE2-29BE-4986-AC36-891D88362D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CB03-8D49-42F4-8B13-CF8FA6D261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5305-20D6-480E-94F6-5BF99C2925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6B2E-5ACD-4E89-B48A-D0DE9180B4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AC09-A8F2-43D7-A41F-F609B27D46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47FC-15EE-46F0-87C2-6426C798D5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1B82-C253-42B5-B8B5-94B5472043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61DE-0D2E-4AC0-9B65-D57C918531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99F8-A994-42FA-9929-606C5D56DD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0C77-E8DB-491F-9482-874969DE53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0062-71A7-423A-9162-D6CE2D3930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DA71-54D1-4456-9F39-9539C2D333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171F-B605-487A-BEC0-CD73721318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3285-0AA5-413F-A678-6588FBBDE5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18AF-D6E9-4F40-AD81-B42C2715E3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2D8C-CC15-42B2-A36E-B1CD23D673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1834-DE18-4375-A0E1-C2D5530392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-4680" y="6427800"/>
            <a:ext cx="9161280" cy="430200"/>
          </a:xfrm>
          <a:prstGeom prst="rect">
            <a:avLst/>
          </a:prstGeom>
          <a:solidFill>
            <a:srgbClr val="364395"/>
          </a:solidFill>
          <a:ln w="9360">
            <a:solidFill>
              <a:srgbClr val="364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12" descr="Pearson_Bound_White"/>
          <p:cNvPicPr/>
          <p:nvPr/>
        </p:nvPicPr>
        <p:blipFill>
          <a:blip r:embed="rId2"/>
          <a:stretch/>
        </p:blipFill>
        <p:spPr>
          <a:xfrm>
            <a:off x="7738920" y="6426360"/>
            <a:ext cx="1441440" cy="4302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3" descr="Pearson_Strap_Bound_White"/>
          <p:cNvPicPr/>
          <p:nvPr/>
        </p:nvPicPr>
        <p:blipFill>
          <a:blip r:embed="rId3"/>
          <a:stretch/>
        </p:blipFill>
        <p:spPr>
          <a:xfrm>
            <a:off x="0" y="6427800"/>
            <a:ext cx="1660680" cy="430200"/>
          </a:xfrm>
          <a:prstGeom prst="rect">
            <a:avLst/>
          </a:prstGeom>
          <a:ln w="0">
            <a:noFill/>
          </a:ln>
        </p:spPr>
      </p:pic>
      <p:sp>
        <p:nvSpPr>
          <p:cNvPr id="4" name="Text Box 47"/>
          <p:cNvSpPr/>
          <p:nvPr/>
        </p:nvSpPr>
        <p:spPr>
          <a:xfrm>
            <a:off x="1533600" y="6462720"/>
            <a:ext cx="56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mentary Surveying: An Introduction to Geomatics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, 14e, Global Edi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harles D. Ghilani | Paul R. Wolf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267080" y="6450120"/>
            <a:ext cx="3657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© 2016 Pearson Education, Ltd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1.1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An oblique triangle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" name="Picture 2" descr="FG_11_001.jpg"/>
          <p:cNvPicPr/>
          <p:nvPr/>
        </p:nvPicPr>
        <p:blipFill>
          <a:blip r:embed="rId1"/>
          <a:stretch/>
        </p:blipFill>
        <p:spPr>
          <a:xfrm>
            <a:off x="457200" y="1901880"/>
            <a:ext cx="822960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1.10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Detail of rotation formulas in two-dimensional conformal coordinate transformation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" name="Picture 2" descr="FG_11_010.jpg"/>
          <p:cNvPicPr/>
          <p:nvPr/>
        </p:nvPicPr>
        <p:blipFill>
          <a:blip r:embed="rId1"/>
          <a:stretch/>
        </p:blipFill>
        <p:spPr>
          <a:xfrm>
            <a:off x="457200" y="1103400"/>
            <a:ext cx="822960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1.11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Data file and results of adjustment for Example 11.6 using WOLFPACK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" name="Picture 2" descr="FG_11_011.jpg"/>
          <p:cNvPicPr/>
          <p:nvPr/>
        </p:nvPicPr>
        <p:blipFill>
          <a:blip r:embed="rId1"/>
          <a:stretch/>
        </p:blipFill>
        <p:spPr>
          <a:xfrm>
            <a:off x="1471680" y="971640"/>
            <a:ext cx="62006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1.12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Geometry of the inaccessible point problem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" name="Picture 2" descr="FG_11_012.jpg"/>
          <p:cNvPicPr/>
          <p:nvPr/>
        </p:nvPicPr>
        <p:blipFill>
          <a:blip r:embed="rId1"/>
          <a:stretch/>
        </p:blipFill>
        <p:spPr>
          <a:xfrm>
            <a:off x="923760" y="971640"/>
            <a:ext cx="729648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1.13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Geometry of the three-dimensional two-point resection problem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" name="Picture 2" descr="FG_11_013.jpg"/>
          <p:cNvPicPr/>
          <p:nvPr/>
        </p:nvPicPr>
        <p:blipFill>
          <a:blip r:embed="rId1"/>
          <a:stretch/>
        </p:blipFill>
        <p:spPr>
          <a:xfrm>
            <a:off x="1409760" y="971640"/>
            <a:ext cx="632448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1.14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Coordinate geometry submenu from WOLFPACK program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" name="Picture 2" descr="FG_11_014.jpg"/>
          <p:cNvPicPr/>
          <p:nvPr/>
        </p:nvPicPr>
        <p:blipFill>
          <a:blip r:embed="rId1"/>
          <a:stretch/>
        </p:blipFill>
        <p:spPr>
          <a:xfrm>
            <a:off x="457200" y="1949400"/>
            <a:ext cx="8229600" cy="32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1.15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Help screen for two-dimensional conformal coordinate transformation from WOLFPACK program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" name="Picture 2" descr="FG_11_015.jpg"/>
          <p:cNvPicPr/>
          <p:nvPr/>
        </p:nvPicPr>
        <p:blipFill>
          <a:blip r:embed="rId1"/>
          <a:stretch/>
        </p:blipFill>
        <p:spPr>
          <a:xfrm>
            <a:off x="457200" y="1306440"/>
            <a:ext cx="822960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Problems 11.12 through 11.16 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Field conditions for intersections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" name="Picture 3" descr="Problems_11_12_through_11_16.jpg"/>
          <p:cNvPicPr/>
          <p:nvPr/>
        </p:nvPicPr>
        <p:blipFill>
          <a:blip r:embed="rId1"/>
          <a:stretch/>
        </p:blipFill>
        <p:spPr>
          <a:xfrm>
            <a:off x="2782800" y="971640"/>
            <a:ext cx="35784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Problem 11.17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Subdivision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" name="Picture 2" descr="Problem_11_17.jpg"/>
          <p:cNvPicPr/>
          <p:nvPr/>
        </p:nvPicPr>
        <p:blipFill>
          <a:blip r:embed="rId1"/>
          <a:stretch/>
        </p:blipFill>
        <p:spPr>
          <a:xfrm>
            <a:off x="2254320" y="971640"/>
            <a:ext cx="463536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Problem 11.18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Subdivision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2" descr="Problem_11_18.jpg"/>
          <p:cNvPicPr/>
          <p:nvPr/>
        </p:nvPicPr>
        <p:blipFill>
          <a:blip r:embed="rId1"/>
          <a:stretch/>
        </p:blipFill>
        <p:spPr>
          <a:xfrm>
            <a:off x="2021040" y="971640"/>
            <a:ext cx="51019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1.2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Geometry of a straight line in a plane coordinate system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" name="Picture 2" descr="FG_11_002.jpg"/>
          <p:cNvPicPr/>
          <p:nvPr/>
        </p:nvPicPr>
        <p:blipFill>
          <a:blip r:embed="rId1"/>
          <a:stretch/>
        </p:blipFill>
        <p:spPr>
          <a:xfrm>
            <a:off x="793800" y="971640"/>
            <a:ext cx="75564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1.3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Geometry of a circle in a plane coordinate system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" name="Picture 2" descr="FG_11_003.jpg"/>
          <p:cNvPicPr/>
          <p:nvPr/>
        </p:nvPicPr>
        <p:blipFill>
          <a:blip r:embed="rId1"/>
          <a:stretch/>
        </p:blipFill>
        <p:spPr>
          <a:xfrm>
            <a:off x="2097000" y="971640"/>
            <a:ext cx="4950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1.4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Perpendicular distance of a point from a line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" name="Picture 2" descr="FG_11_004.jpg"/>
          <p:cNvPicPr/>
          <p:nvPr/>
        </p:nvPicPr>
        <p:blipFill>
          <a:blip r:embed="rId1"/>
          <a:stretch/>
        </p:blipFill>
        <p:spPr>
          <a:xfrm>
            <a:off x="1111320" y="971640"/>
            <a:ext cx="692136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1.5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Intersection of two lines with known directions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2" descr="FG_11_005.jpg"/>
          <p:cNvPicPr/>
          <p:nvPr/>
        </p:nvPicPr>
        <p:blipFill>
          <a:blip r:embed="rId1"/>
          <a:stretch/>
        </p:blipFill>
        <p:spPr>
          <a:xfrm>
            <a:off x="1914480" y="971640"/>
            <a:ext cx="53150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1.6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Intersection of a line and a circle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Picture 2" descr="FG_11_006.jpg"/>
          <p:cNvPicPr/>
          <p:nvPr/>
        </p:nvPicPr>
        <p:blipFill>
          <a:blip r:embed="rId1"/>
          <a:stretch/>
        </p:blipFill>
        <p:spPr>
          <a:xfrm>
            <a:off x="2085840" y="971640"/>
            <a:ext cx="49723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1.7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Intersection of two circles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" name="Picture 2" descr="FG_11_007.jpg"/>
          <p:cNvPicPr/>
          <p:nvPr/>
        </p:nvPicPr>
        <p:blipFill>
          <a:blip r:embed="rId1"/>
          <a:stretch/>
        </p:blipFill>
        <p:spPr>
          <a:xfrm>
            <a:off x="2327400" y="971640"/>
            <a:ext cx="44892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1.8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The resection problem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" name="Picture 2" descr="FG_11_008.jpg"/>
          <p:cNvPicPr/>
          <p:nvPr/>
        </p:nvPicPr>
        <p:blipFill>
          <a:blip r:embed="rId1"/>
          <a:stretch/>
        </p:blipFill>
        <p:spPr>
          <a:xfrm>
            <a:off x="1204920" y="971640"/>
            <a:ext cx="673416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1.9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Geometry of the two-dimensional coordinate transformation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Picture 2" descr="FG_11_009.jpg"/>
          <p:cNvPicPr/>
          <p:nvPr/>
        </p:nvPicPr>
        <p:blipFill>
          <a:blip r:embed="rId1"/>
          <a:stretch/>
        </p:blipFill>
        <p:spPr>
          <a:xfrm>
            <a:off x="1422360" y="971640"/>
            <a:ext cx="629928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19:11:18Z</dcterms:created>
  <dc:creator>Scott Anstaett</dc:creator>
  <dc:description/>
  <dc:language>en-US</dc:language>
  <cp:lastModifiedBy>Binod</cp:lastModifiedBy>
  <dcterms:modified xsi:type="dcterms:W3CDTF">2015-06-30T09:36:01Z</dcterms:modified>
  <cp:revision>14</cp:revision>
  <dc:subject/>
  <dc:title>1 Introduction</dc:title>
</cp:coreProperties>
</file>